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3DC0-15BE-48BB-8957-97763EB2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D89-E463-4DBC-8680-BC9E072B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4412-CA7D-41EB-BB9A-507D69DCF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AC67-D422-4B8A-98F3-704A0F78B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844C-4731-4A96-8A9B-32985B0A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F73-E377-45E6-9667-9058D098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357-F4AF-48FE-804D-18955F0B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959-7206-4DD4-A9CA-1503C1E2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3B8-3064-49AF-B52F-A3A5191E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E28-C216-4346-B562-2882FF3C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6BF-DAEA-40E1-866A-83B4CE5A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4E2-9550-4DFD-A9ED-0F609C6E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4D8-DA92-4E2D-9144-B3210678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A65-7C66-4D92-BC9A-33EB4EE7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B43-7C11-4F70-BD65-1FA61069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56D-0D55-4A00-9725-D4EA6B3D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74A-EA28-4D10-BF95-964AA856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2C5C-8D89-4F02-B916-3599E203F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9824-7629-43C2-B79B-2FB0AC49B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7240" y="1412640"/>
            <a:ext cx="7917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ea typeface="Kodchiang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ea typeface="Kodchiang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ินัย หมายถึง การอยู่ในระเบียบแบบแผนข้อบังคับหรือ ข้อปฏิบัติ ซึ่งข้อบังคับหรือข้อปฏิบัติในแต่ละวงการหรือหน่วยงานอาจแตกต่างกัน การที่จะพิจารณาว่าการกระทำใดเป็นการผิดวินัยหรือไม่ ต้องพิจารณาว่าเป็นการกระทำที่ผิดระเบียบแบบแผนหรือข้อบังคับหรือข้อปฏิบัติในวงการหรือหน่วยงานนั้น หรือไม่และการกำหนดระดับโทษต้องพิจารณาประกอบกับระเบียบแบบแผนหรือข้อบังคับของแต่ละหน่วยงานหรือวงการ นั้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84744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73200" y="341280"/>
            <a:ext cx="80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Browallia New"/>
              </a:rPr>
              <a:t>ความหมา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73B1-B77E-499A-824D-41E6F8C76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Imprint MT Shadow"/>
              </a:rPr>
              <a:t>ความผิดทางวินัยอย่างร้ายแร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414440"/>
            <a:ext cx="784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ทุจริตต่อหน้าที่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๘๒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สาม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ประมาทเลินเล่อในหน้าที่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๘๔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สอ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๓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จงใจไม่ปฏิบัติหน้าที่ราชการ ตามกฎหมาย ระเบียบของทางราชการ มติคณะรัฐมนตรี หรือนโยบายของรัฐบาล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๘๕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สอ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๔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ปิดเผยความลับของทาง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๘๗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สอ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72B9-CC2A-4CDC-84D7-BD49C8A6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ความผิดทางวินัยอย่าง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11280" y="1341360"/>
            <a:ext cx="799308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๕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ขัดคำสั่งหรือหลีกเลี่ยงไม่ปฏิบัติตามคำสั่งของผู้บังคับบัญชา  ซึ่งสั่งในหน้าที่ราชการ โดยชอบด้วยกฎหมายและระเบียบของทาง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๘๘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สอ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๖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รายงานเท็จต่อผู้บังคับบัญชา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๐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สอ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๗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ละทิ้งหรือทอดทิ้งหน้าที่ราชการ โดยไม่มีเหตุผลอันสมควรหรือละทิ้งหน้าที่ราชการติดต่อ ในคราวเดียวกันเป็นเวลาเกินกว่า ๑๕ วัน โดยไม่มีเหตุผลอันสมควรหรือโดยมีพฤติการณ์อันแสดงถึงความจงใจไม่ปฏิบัติ ตามระเบียบของทาง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๒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สอ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504C-1A96-4487-94CA-1B9FD18D2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993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๘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ูหมิ่น เหยียดหยาม กดขี่ หรือข่มเหงประชาชนผู้ติดต่อราชการอย่างร้ายแรง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๔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สอ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๙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ะทำความผิดอาญาจนได้รับโทษจำคุก หรือโทษที่หนักกว่าจำคุก โดยคำพิพากษาถึงที่สุด หรือให้รับโทษที่หนักกว่าจำคุก เว้นแต่เป็นโทษสำหรับความผิดที่ได้กระทำโดยประมาท หรือความผิดลหุโทษ หรือกระทำการอื่นใดอันได้ชื่อว่าเป็นผู้ประพฤติชั่วอย่างร้ายแรง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๘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สอ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732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ความผิดทางวินัยอย่าง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1E7-1938-4039-995B-AC372275A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77720" y="1268280"/>
            <a:ext cx="8126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ม่สนับสนุนการปกครองระบอบประชาธิปไตยอันมีพระมหากษัตริย์ทรงเป็นประมุข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๘๑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ม่ปฏิบัติหน้าที่ราชการด้วยความซื่อสัตย์สุจริต และเที่ยงธรรม อาศัยหรือยอมให้ผู้อื่นอาศัยอำนาจหน้าที่ของตนหาผลประโยชน์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๘๒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หนึ่ง และวรรคสอ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๓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ม่ตั้งใจปฏิบัติหน้าที่ราชการให้เกิดผลดีและเกิดความก้าวหน้า         แก่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๘๓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หนึ่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๔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ม่ปฏิบัติหน้าที่ราชการด้วยความอุตสาหะ ไม่ระมัดระวังรักษาผลประโยชน์ของทางราชการและประมาทเลินเล่อในหน้าที่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๘๔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หนึ่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732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ความผิดทางวินัยอย่างไม่ร้ายแร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B032-C4C1-48D4-BFB1-9E3F0A80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๕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ไม่ปฏิบัติหน้าที่ราชการให้เป็นไปตามกฎหมาย ระเบียบของทางราชการ มติคณะรัฐมนตรีหรือนโยบายของรัฐบาล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าตรา ๘๕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วรรคหนึ่ง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๖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ไม่สนใจรับทราบเหตุการณ์เคลื่อนไหวอันอาจเป็นภยันตรายต่อประเทศชาติ และไม่ป้องกันภยันตราย ซึ่งจะบังเกิดแก่ประเทศชาติ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าตรา ๘๖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๗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ไม่รักษาความลับของทางราชการ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าตรา ๘๗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วรรคหนึ่ง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๘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ไม่ปฏิบัติตามคำสั่งของผู้บังคับบัญชาซึ่งสั่งการในหน้าที่โดยชอบด้วยกฎหมาย และระเบียบของทางราชการ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าตรา ๘๘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วรรคหนึ่ง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32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ความผิดทางวินัยอย่างไม่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2A9B-AD6C-423B-A399-B5989FD41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๙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ปฏิบัติราชการโดยกระทำการข้ามผู้บังคับบัญชาเหนือต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๘๙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๐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รายงานเท็จต่อผู้บังคับบัญชา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๐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หนึ่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๑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ม่ถือและปฏิบัติตามระเบียบ และแบบธรรมเนียมของราชการ  และจรรยาบรรณของข้าราชการพลเรือน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๑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๒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ม่อุทิศเวลาให้แก่ราชการ ละทิ้งหรือทอดทิ้งหน้าที่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๒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หนึ่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ความผิดทางวินัยอย่างไม่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8377-04FF-47E2-945F-54FED2E32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800244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๓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ม่สุภาพเรียบร้อย ไม่รักษาความสามัคคี กระทำการที่เป็นการกลั่นแกล้งกัน และไม่ช่วยเหลือกันในระหว่าง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๓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๔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ม่ต้อนรับ ไม่ให้ความสะดวกไม่ให้ความเป็นธรรมแก่ประชาชน ผู้มาติดต่อ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๔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หนึ่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๕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ะทำการหรือยอมให้ผู้อื่นกระทำการหาผลประโยชน์อันอาจทำให้เสียความเที่ยงธรรม หรือเสื่อมเสียเกียรติศักดิ์ของตำแหน่งหน้าที่ของตน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๕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732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ความผิดทางวินัยอย่างไม่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E940-942F-4A00-BA76-7E846F09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218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๖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ม่วางตนเป็นกลางทางการเมืองในการปฏิบัติหน้าที่ราชการ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๗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๗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ม่รักษาชื่อเสียงของตนและรักษาเกียรติศักดิ์ของตำแหน่งหน้าที่ราชการของตนโดยกระทำการใด ๆ อันได้ชื่อว่าเป็นผู้ประพฤติชั่ว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๙๘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หนึ่ง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Browallia New"/>
                <a:ea typeface="Kodchiang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732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ความผิดทางวินัยอย่างไม่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ตัวยึดหมายเลขภาพนิ่ง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08BA-DF9C-488D-BED9-4EFA5ECCC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8C97-EFDE-4FEA-B635-D87BE6405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ขั้นตอนดำเนินการสอบสวนวินัย 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กรณีถูกกล่าวหาว่ากระทำผิดวินัยอย่างร้ายแร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ผู้มีอำนาจสั่งบรรจุเป็นผู้มีอำนาจแต่งตั้งคณะกรรมการสอบสวนความผิดทางวินัยอย่างร้ายแรง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๑๐๒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รรคสาม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ให้ผู้สั่งแต่งตั้งคณะกรรมการสอบสวน แจ้งคำสั่งให้ผู้ถูกกล่าวหาทราบ และส่งสำเนาคำสั่งแต่งตั้งคณะกรรมการสอบสวนให้คณะกรรมการสอบสวนทราบ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ตาม กฎ ก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ฉบับที่ ๑๘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๕๔๐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ข้อ ๕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5CF1-F851-4AEB-AEDA-389759410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431280"/>
            <a:ext cx="80326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  <a:cs typeface="KodchiangUPC"/>
              </a:rPr>
              <a:t>วินัย และโทษทางวินัยของกำนัน ผู้ใหญ่บ้า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025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ระราชบัญญัติลักษณะปกครองท้องที่ พระพุทธศักราช ๒๔๕๗ ตามมาตรา ๖๑ ทวิ และ  มาตรา ๖๑ ตร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หนังสือกระทรวงมหาดไทย ที่ มท ๐๓๑๐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 ๒๔๑๐ ลงวันที่ ๔ สิงหาคม ๒๕๕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ระราชบัญญัติระเบียบข้าราชการพลเรือน พ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๕๓๕ หมวด ๔ เรื่องวินัย มาตรา ๘๐ – ๙๙ และเรื่องโทษทางวินัย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าตรา ๑๐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8C5A-CFE2-4EAF-A650-C2A43323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ขั้นตอนดำเนินการสอบสวนวินัย 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กรณีถูกกล่าวหาว่ากระทำผิดวินัยอย่าง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๓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ผู้ถูกกล่าวหามีสิทธิคัดค้านผู้ได้รับแต่งตั้งเป็นกรรมการสอบสวน โดยทำเป็นหนังสือยื่นต่อผู้สั่งแต่งตั้งภายใน ๗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ันนับแต่วันทราบคำสั่ง หรือวันที่ทราบเหตุแห่งการคัดค้าน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ตาม กฎ ก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ฉบับที่ ๑๘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๕๔๐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ข้อ ๘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7B27-D6C2-4A47-AC7B-A4CDF3F95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๔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ให้คณะกรรมการสอบสวนเรียกผู้ถูกกล่าวหามาเพื่อแจ้งและอธิบายข้อกล่าวหาตามเรื่องที่ถูกกล่าวหาให้ทราบว่าผู้ถูกกล่าวหาได้กระทำการใด เมื่อใด อย่างไร และแจ้งด้วยว่าผู้ถูกกล่าวหามีสิทธิที่จะได้รับแจ้งสรุปพยานหลักฐานที่สนับสนุนข้อกล่าวหามีสิทธิที่จะให้ถ้อยคำ ชี้แจงแก้ข้อกล่าวหาตลอดจนนำพยานมาสืบ แก้ข้อกล่าวหา 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ตาม กฎ ก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พ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ฉบับที่ ๑๘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พ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ศ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๒๕๔๐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)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ข้อ ๑๔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ขั้นตอนดำเนินการสอบสวนวินัย 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กรณีถูกกล่าวหาว่ากระทำผิดวินัยอย่าง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79E5-56A7-48DC-A8AA-67458581A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๕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ให้คณะกรรมการสอบสวนเรียกผู้ถูกกล่าวมาพบ เพื่อแจ้งข้อกล่าวหาและสรุปพยานหลักฐานที่สนับสนุนข้อกล่าวหา และถามผู้ถูกกล่าวหาว่าจะยื่นคำชี้แจง แก้ข้อกล่าวหาเป็นหนังสือหรือไม่ และต้องให้โอกาสผู้ถูกกล่าวหายื่นคำชี้แจงภายในเวลาอันสมควร 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ตาม กฎ ก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พ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ฉบับที่ ๑๘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พ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ศ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๒๕๔๐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)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ข้อ ๑๕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ขั้นตอนดำเนินการสอบสวนวินัย 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กรณีถูกกล่าวหาว่ากระทำผิดวินัยอย่าง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6F7B-37E2-447C-A329-D8DB3869B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๖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เมื่อคณะกรรมการสอบสวน ได้รวบรวมพยานหลักฐานต่าง ๆ เสร็จสิ้นแล้ว คณะกรรมการสอบสวนจะต้องประชุมพิจารณา ลงมติว่า ผู้ถูกกล่าวหาได้กระทำผิดวินัยหรือไม่ ถ้าผิด เป็นความผิดวินัย กรณีใด ตามตราใด และควรได้รับโทษสถานใด แล้วเสนอผู้สั่งแต่งตั้งคณะกรรมการสอบสวนเพื่อพิจารณาสั่งกา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ขั้นตอนดำเนินการสอบสวนวินัย 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กรณีถูกกล่าวหาว่ากระทำผิดวินัยอย่าง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ตัวยึดหมายเลขภาพนิ่ง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CD52-E562-4244-A9E5-1580E3C93EE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40464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39640" y="549360"/>
            <a:ext cx="820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j0299125"/>
          <p:cNvPicPr/>
          <p:nvPr/>
        </p:nvPicPr>
        <p:blipFill>
          <a:blip r:embed="rId1"/>
          <a:stretch/>
        </p:blipFill>
        <p:spPr>
          <a:xfrm>
            <a:off x="4067280" y="5157720"/>
            <a:ext cx="74592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685800" y="1219320"/>
            <a:ext cx="79200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ถูกฟ้องในคดีอาญา เว้นแต่ในความผิดในลักษณะฐานลหุโทษ หรือความผิดอันได้กระทำโดยประมา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ีกรณีต้องหาว่ากระทำผิดวินัยอย่างร้ายแรง  ถูกสอบสวน เพื่อไล่ออก หรือปลดออ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049400" y="260280"/>
            <a:ext cx="7051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การสั่งพักหน้าที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62F2-11BB-40C0-940A-7BB3135C8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การสั่งให้กลับเข้ารับหน้าที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Browallia New"/>
                <a:ea typeface="Kodchiang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มื่อกำนัน ผู้ใหญ่บ้าน หรือผู้ช่วยผู้ใหญ่บ้าน     ถูกสั่งพักหน้าที่แล้ว หากการสอบสวนปรากฏว่า ไม่ได้กระทำผิด หรือหากกระทำผิด แต่ไม่ถึงกับถูกลงโทษ   ไล่ออก ปลดออก การสั่งให้กลับเข้ารับหน้าที่เป็นอำนาจของผู้ว่าราชการจังหวัด พร้อมทั้งการวินิจฉัยว่าควรจ่ายเงินเดือนระหว่างพักได้เพียงใดหรือไม่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99125"/>
          <p:cNvPicPr/>
          <p:nvPr/>
        </p:nvPicPr>
        <p:blipFill>
          <a:blip r:embed="rId1"/>
          <a:stretch/>
        </p:blipFill>
        <p:spPr>
          <a:xfrm>
            <a:off x="4233960" y="5445000"/>
            <a:ext cx="56988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ตัวยึดหมายเลขภาพนิ่ง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714F-4A65-4182-BAAD-A66BCA663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12760"/>
            <a:ext cx="84247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การลงโท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270080"/>
            <a:ext cx="7921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ระดับโทษ แบ่งเป็น ๕ สถ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ภาคทัณฑ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ตัดเงินเดือ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๓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ลดขั้นเงินเดือ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๔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ปลดออ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๕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ล่ออก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ตัวยึดหมายเลขภาพนิ่ง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D1B0-652C-468B-8B11-13C690461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212760"/>
            <a:ext cx="84247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การลงโทษ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3600" spc="-1" strike="noStrike">
                <a:solidFill>
                  <a:srgbClr val="000000"/>
                </a:solidFill>
                <a:latin typeface="Browallia New"/>
                <a:ea typeface="KodchiangUPC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อำนาจในการลงโท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กำนันลงโทษ ภาคทัณฑ์ ผู้ใหญ่บ้าน และผู้ช่วยผู้ใหญ่บ้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นายอำเภอ มีอำนาจลงโท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ภาคทัณฑ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ตัดเงินเดือน ๕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%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เป็นเวลาไม่เกิน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เดือ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๓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ลดขั้นเงินเดือน ไม่เกิน ๑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อันดั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๓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ผู้ว่าราชการจังหวัด มีอำนาจลงโทษกำนัน ผู้ใหญ่บ้าน แพทย์ประจำตำบล และผู้ช่วยผู้ใหญ่บ้าน ได้ทุกสถ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2C8F-8788-4BB1-ADA7-ECF8F8424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9480"/>
            <a:ext cx="822960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การร้องทุกข์ คำสั่งลงโทษทางวินั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921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หลักเกณฑ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ร้องทุกข์ได้เฉพาะกรณี     ถูกลงโทษ ปลดออก หรือไล่ออ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ต้องร้องทุกข์ด้วยตนเอ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๓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ให้ยื่นคำร้องทุกข์ต่อนายอำเภอ ภายใน ๑๕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ันนับแต่วันทราบคำสั่งการลงโท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32ED-C197-4EB3-86C6-E70DBEE4D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9480"/>
            <a:ext cx="822960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การร้องทุกข์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ต่อ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09480" y="1219320"/>
            <a:ext cx="806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ขั้นตอนการพิจารณ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นายอำเภอ รับคำร้องทุกข์ แล้วส่งให้ ผู้ว่าราชการจังหวัดภายใน ๑๕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ัน  นับแต่วันได้รับคำร้องทุกข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มื่อผู้ว่าราชการจังหวัด ได้รับคำร้องทุกข์ จะต้องส่งคำร้องทุกข์คำสั่งลงโทษไปกระทรวงมหาดไทยภายใน ๑๕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ัน นับแต่วันได้รับคำร้องทุกข์คำสั่งลงโท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๓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มื่อกระทรวงมหาดไทย ได้รับคำร้องทุกข์คำสั่งลงโทษจากผู้ว่าราชการจังหวัดแล้ว   มีอำนาจที่จะสั่งให้ยกคำร้องทุกข์หรือเพิกถอนคำสั่งการลงโทษหรือลดโทษได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1E2E-FAB2-4580-9BD2-D9C318333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การดำเนินการกรณีได้รับเรื่องร้องเรียนกล่าวโทษ 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กำนัน ผู้ใหญ่บ้า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หนังสือกระทรวงมหาดไทย ที่ มท ๐๒๐๕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๓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 ๓ ลงวันที่ ๔ มกราคม ๒๕๔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หนังสือกระทรวงมหาดไทย ที่ มท ๐๓๑๑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 ๕๑๒ ลงวันที่ ๒๓ กุมภาพันธ์ ๒๕๔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F88C-6627-488B-B6ED-406BA798D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Browallia New"/>
              </a:rPr>
              <a:t>การอุทธรณ์คำสั่งทางปกครอ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หลักเกณฑ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ามารถอุทธรณ์คำสั่ง โดยทำเป็นหนังสือระบุข้อโต้แย้ง และข้อเท็จจริง หรือข้อกฎหมายที่อ้างอิงประกอบยื่นต่อเจ้าหน้าที่ผู้ทำคำสั่ง ภายใน ๑๕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ันนับแต่ที่ได้รับแจ้งคำสั่งตามพระราชบัญญัติวิธีปฏิบัติราชการทางปกครอง พ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๒๕๓๙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นกรณ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.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ผู้ว่าราชการจังหวัด หรือนายอำเภอ  มีคำสั่งลงโทษทางวินัยอย่างไม่ร้ายแร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.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ผู้ว่าราชการจังหวัดมีคำสั่งให้พ้นจากตำแหน่งมาตรา  ๑๔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)-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๑๑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๓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ายอำเภอมีคำสั่งพักหน้าที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0067-764A-4FC6-BA7F-C5F2CD14B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Browallia New"/>
              </a:rPr>
              <a:t>การอุทธรณ์คำสั่งทางปกครอง</a:t>
            </a:r>
            <a:r>
              <a:rPr b="1" lang="th-TH" sz="4400" spc="-1" strike="noStrike">
                <a:solidFill>
                  <a:srgbClr val="ffffff"/>
                </a:solidFill>
                <a:latin typeface="Browallia New"/>
              </a:rPr>
              <a:t>(</a:t>
            </a:r>
            <a:r>
              <a:rPr b="1" lang="th-TH" sz="4400" spc="-1" strike="noStrike">
                <a:solidFill>
                  <a:srgbClr val="ffffff"/>
                </a:solidFill>
                <a:latin typeface="Browallia New"/>
              </a:rPr>
              <a:t>ต่อ</a:t>
            </a:r>
            <a:r>
              <a:rPr b="1" lang="th-TH" sz="4400" spc="-1" strike="noStrike">
                <a:solidFill>
                  <a:srgbClr val="ffffff"/>
                </a:solidFill>
                <a:latin typeface="Browalli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55640" y="981000"/>
            <a:ext cx="7848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ขั้นตอนการพิจารณ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รณีผู้ว่าราชการจังหวัดหรือนายอำเภอเป็นผู้ทำคำสั่ง เห็นด้วยกับคำอุทธรณ์ ก็ให้ดำเนินการเปลี่ยนแปลงคำสั่งทางปกครองตามความเห็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รณีผู้ว่าราชการจังหวัดซึ่งเป็นผู้ทำคำสั่งไม่เห็นด้วยกับคำอุทธรณ์ ให้ผู้ว่าราชการจังหวัดรายงานความเห็นไปยังรัฐมนตรีว่าการกระทรวงมหาดไทย เพื่อพิจารณาวินิจฉัยคำอุทธรณ์ แต่หากนายอำเภอเป็นผู้ทำคำสั่ง ให้นายอำเภอรายงานความเห็นไปยังผู้ว่าราชการจังหวัด เพื่อพิจารณาวินิจฉัยคำอุทธรณ์ ตามพระราชบัญญัติวิธีปฏิบัติราชการทางปกครอง พ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๒๕๓๙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มาตรา ๔๔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,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๔๕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ประกอบกฎกระทรวง ฉบับที่ ๔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๒๕๔๐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ข้อ ๒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๘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ละ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๑๑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Browallia New"/>
                <a:ea typeface="KodchiangUPC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Browallia New"/>
                <a:ea typeface="KodchiangUPC"/>
              </a:rPr>
              <a:t>&amp;&amp;&amp;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ตัวยึดหมายเลขภาพนิ่ง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2EEB-4F9B-4C5D-A642-B6B81E36E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0"/>
          <p:cNvGrpSpPr/>
          <p:nvPr/>
        </p:nvGrpSpPr>
        <p:grpSpPr>
          <a:xfrm>
            <a:off x="914400" y="990720"/>
            <a:ext cx="7993080" cy="5688000"/>
            <a:chOff x="914400" y="990720"/>
            <a:chExt cx="7993080" cy="5688000"/>
          </a:xfrm>
        </p:grpSpPr>
        <p:pic>
          <p:nvPicPr>
            <p:cNvPr id="148" name="Picture 2" descr="star"/>
            <p:cNvPicPr/>
            <p:nvPr/>
          </p:nvPicPr>
          <p:blipFill>
            <a:blip r:embed="rId1"/>
            <a:stretch/>
          </p:blipFill>
          <p:spPr>
            <a:xfrm>
              <a:off x="2387520" y="24829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" descr="star"/>
            <p:cNvPicPr/>
            <p:nvPr/>
          </p:nvPicPr>
          <p:blipFill>
            <a:blip r:embed="rId2"/>
            <a:stretch/>
          </p:blipFill>
          <p:spPr>
            <a:xfrm>
              <a:off x="6578640" y="24829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" descr="star"/>
            <p:cNvPicPr/>
            <p:nvPr/>
          </p:nvPicPr>
          <p:blipFill>
            <a:blip r:embed="rId3"/>
            <a:stretch/>
          </p:blipFill>
          <p:spPr>
            <a:xfrm>
              <a:off x="914400" y="1206720"/>
              <a:ext cx="4032360" cy="40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5" descr="boymove1"/>
            <p:cNvPicPr/>
            <p:nvPr/>
          </p:nvPicPr>
          <p:blipFill>
            <a:blip r:embed="rId4"/>
            <a:stretch/>
          </p:blipFill>
          <p:spPr>
            <a:xfrm>
              <a:off x="2066760" y="5345280"/>
              <a:ext cx="795600" cy="13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boymove1"/>
            <p:cNvPicPr/>
            <p:nvPr/>
          </p:nvPicPr>
          <p:blipFill>
            <a:blip r:embed="rId5"/>
            <a:stretch/>
          </p:blipFill>
          <p:spPr>
            <a:xfrm>
              <a:off x="6675480" y="5310360"/>
              <a:ext cx="79524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AutoShape 7"/>
            <p:cNvSpPr/>
            <p:nvPr/>
          </p:nvSpPr>
          <p:spPr>
            <a:xfrm>
              <a:off x="3002040" y="5383440"/>
              <a:ext cx="3529080" cy="1295280"/>
            </a:xfrm>
            <a:prstGeom prst="horizontalScroll">
              <a:avLst>
                <a:gd name="adj" fmla="val 12500"/>
              </a:avLst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5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ขอบคุณครับ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"/>
            <p:cNvSpPr/>
            <p:nvPr/>
          </p:nvSpPr>
          <p:spPr>
            <a:xfrm>
              <a:off x="1708200" y="1146240"/>
              <a:ext cx="6335640" cy="47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800" spc="-1" strike="noStrike">
                  <a:solidFill>
                    <a:srgbClr val="000000"/>
                  </a:solidFill>
                  <a:latin typeface="Comic Sans MS"/>
                </a:rPr>
                <a:t>กลุ่มวินัย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800" spc="-1" strike="noStrike">
                  <a:solidFill>
                    <a:srgbClr val="000000"/>
                  </a:solidFill>
                  <a:latin typeface="Comic Sans MS"/>
                </a:rPr>
                <a:t>ส่วนบริหารงานกำนัน ผู้ใหญ่บ้า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5400" spc="-1" strike="noStrike">
                  <a:solidFill>
                    <a:srgbClr val="000000"/>
                  </a:solidFill>
                  <a:latin typeface="Arial"/>
                </a:rPr>
                <a:t>สำนักบริหารการปกครองท้องที่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star"/>
            <p:cNvPicPr/>
            <p:nvPr/>
          </p:nvPicPr>
          <p:blipFill>
            <a:blip r:embed="rId6"/>
            <a:stretch/>
          </p:blipFill>
          <p:spPr>
            <a:xfrm>
              <a:off x="5307120" y="990720"/>
              <a:ext cx="3600360" cy="4273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4E01-B41D-45EC-B95E-E8A867EA1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การดำเนินการเกี่ยวกับเรื่องราวร้องทุกข์ กล่าวโท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ถือเป็นความลับของทางราชการ บัตรสนเท่ห์พิจารณาเฉพาะรายที่ระบุหลักฐาน กรณีแวดล้อมปรากฏชัดแจ้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ส่งสำเนาเรื่องโดยปกปิดชื่อผู้ร้อง ให้หน่วยงานที่เกี่ยวข้องดำเนินกา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หากมีมูลความจริงให้ดำเนินคดีอาญา ดำเนินทางวินั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คุ้มครองผู้ร้องและผู้เกี่ยวข้อ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607D-1705-43CD-B143-B6DA96F2D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ขั้นตอนการตรวจสอบข้อเท็จจริ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แต่งตั้งคณะกรรมการสอบสวนข้อเท็จจริงหรือมอบหมายบุคคลที่เหมาะส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รวบรวมประวัติและความประพฤติของผู้ถูกกล่าวหา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ทำการสอบสวนผู้ร้องเรียนกล่าวโทษ พยาน ให้ครบถ้ว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แจ้งข้อกล่าวหา พยานหลักฐาน ที่สนับสนุนข้อกล่าวหาให้         ผู้ถูกกล่าวหาและให้โอกาสผู้ถูกกล่าวหาชี้แจงนำสืบแก้ข้อกล่าว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หากพาดพิงถึงบุคคลหรือพยานใด ให้สอบสวนให้ครบถ้ว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บันทึกการได้มาของเอกสารหรือวัตถุที่ใช้เป็นพยานหลัก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5927-7A72-4D73-9C31-D7E9547BD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ขั้นตอนการตรวจสอบข้อเท็จจริง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71000"/>
          </a:bodyPr>
          <a:p>
            <a:pPr marL="324360" indent="-32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อบสวนรวบรวมพยานหลักฐานเสร็จ ทำรายงานเสนอผู้สั่งสอบสวนข้อเท็จจริ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720" indent="-27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รุปข้อเท็จจริงและพยานหลัก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720" indent="-27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วินิจฉัยเปรียบเทียบพยานหลัก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720" indent="-27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วามเห็นว่าผู้ถูกกล่าวหากระทำผิดตามข้อกล่าวหาหรือไม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720" indent="-27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ผู้สั่งสอบสวนข้อเท็จจริงตรวจความถูกต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720" indent="-27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ผู้ถูกกล่าวหาไม่ได้กระทำผิด ยุติเรื่อง หรือกระทำผิดวินัยไม่ร้ายแรง ลงโทษทางวิน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720" indent="-27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ผู้ถูกกล่าวหากระทำผิดวินัยอย่างร้ายแรง แต่งตั้งคณะกรรมการสอบสวนวิน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6FE3-582C-4323-B082-CF7F86450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ขั้นตอนการดำเนินการทางวินั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แต่งตั้งคณะกรรมการสอบสวนทางวินั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ิธีการสอบสวนพิจารณา ตามกฎ ก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ฉบับที่ ๑๘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๕๔๐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่าด้วยการสอบสวนพิจารณ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1DD5-1A9F-49FE-80DC-84C0923C0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กรณีกำนัน ผู้ใหญ่บ้าน ถูกกล่าวหาว่าบกพร่องในทางความประพฤติหรือความสามารถไม่เหมาะส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แต่งตั้งคณะกรรมการขึ้นทำการสอบสวนข้อเท็จจริง หร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แต่งตั้งคณะกรรมการสอบสวนเช่นเดียวกับการดำเนินการทางวินัยอย่างร้ายแร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AC8E-5D7B-4965-8FA4-81F29753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ลักษณะความผิดทางวินั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9880" y="1625760"/>
            <a:ext cx="7764480" cy="28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ลักษณะความผิดทางวินัย แบ่งได้เป็น   ๒  ประเภ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๑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ความผิดทางวินัยอย่างร้ายแร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ความผิดทางวินัยอย่างไม่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2:38:05Z</dcterms:created>
  <dc:creator/>
  <dc:description/>
  <dc:language>en-US</dc:language>
  <cp:lastModifiedBy/>
  <dcterms:modified xsi:type="dcterms:W3CDTF">2014-05-22T07:44:43Z</dcterms:modified>
  <cp:revision>107</cp:revision>
  <dc:subject/>
  <dc:title>ภาพนิ่ง 1</dc:title>
</cp:coreProperties>
</file>