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12.gif" ContentType="image/gif"/>
  <Override PartName="/ppt/media/image3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926-B953-4FEF-9F65-D1DF29EE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40D-9BB2-43FC-A206-8C24F0DD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2E3-A18A-43A6-AF9D-7CAA9DA0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DCB-CFD1-457A-BF48-670336B7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84559-2D7F-4419-9017-4ADACFD2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A97AD-2A08-4311-A337-7A67E1E4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3EDE4-FAAF-4934-B923-EE0BC105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28BFF-1377-4F0B-AD27-B72717BE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50BD2-D9E8-43B7-B369-A09F2730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68B9B-B3C6-4792-8438-346E028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6EAB6-C76F-4D60-85F3-421DCEDF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84C-B332-409D-8715-10B846F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D52CA-F29D-4073-BC37-39EE6FD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4B15E-222B-49A1-BE7E-93F02539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FD74D-5DAD-43BA-B984-050AB367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B6CCD-B6ED-4A31-A847-EE9DB863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BCCB5-83EE-46D8-9AC1-E0CD82B5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DBD-45CE-4E04-AE27-A37CC7D6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C35-2ACD-4FF8-B4DF-5A6A0D2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FE3-46BF-43A7-8155-6754E207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335-A28D-4540-9503-4BED976C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35A-B8CA-4B7F-808F-0781BFF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B1D-821D-41EC-A0AF-3D05124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72E-DE56-40D3-92BA-28ADF26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CA7-4615-44C1-ACDD-D2B5615C2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74C-28E2-436C-9853-390699A0F2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11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play.kapook.com/dookdik/line/cat-342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play.kapook.com/dookdik" TargetMode="Externa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1900440"/>
            <a:ext cx="8569440" cy="900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อำนาจหน้าที่ของกำนัน ผู้ใหญ่บ้าน </a:t>
            </a:r>
            <a:br>
              <a:rPr sz="4800"/>
            </a:b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แพทย์ประจำตำบล </a:t>
            </a:r>
            <a:br>
              <a:rPr sz="4800"/>
            </a:b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สารวัตรกำนัน และผู้ช่วยผู้ใหญ่บ้าน </a:t>
            </a:r>
            <a:br>
              <a:rPr sz="4800"/>
            </a:b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ตาม พ</a:t>
            </a:r>
            <a:r>
              <a:rPr b="0" lang="th-TH" sz="4800" spc="-1" strike="noStrike">
                <a:solidFill>
                  <a:srgbClr val="e3e3ff"/>
                </a:solidFill>
                <a:latin typeface="EucrosiaUPC"/>
                <a:ea typeface="EucrosiaUPC"/>
              </a:rPr>
              <a:t>.</a:t>
            </a: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ร</a:t>
            </a:r>
            <a:r>
              <a:rPr b="0" lang="th-TH" sz="4800" spc="-1" strike="noStrike">
                <a:solidFill>
                  <a:srgbClr val="e3e3ff"/>
                </a:solidFill>
                <a:latin typeface="EucrosiaUPC"/>
                <a:ea typeface="EucrosiaUPC"/>
              </a:rPr>
              <a:t>.</a:t>
            </a: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บ</a:t>
            </a:r>
            <a:r>
              <a:rPr b="0" lang="th-TH" sz="4800" spc="-1" strike="noStrike">
                <a:solidFill>
                  <a:srgbClr val="e3e3ff"/>
                </a:solidFill>
                <a:latin typeface="EucrosiaUPC"/>
                <a:ea typeface="EucrosiaUPC"/>
              </a:rPr>
              <a:t>.</a:t>
            </a: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ลักษณะปกครองท้องที่ </a:t>
            </a:r>
            <a:br>
              <a:rPr sz="4800"/>
            </a:br>
            <a:r>
              <a:rPr b="0" lang="th-TH" sz="4800" spc="-1" strike="noStrike">
                <a:solidFill>
                  <a:srgbClr val="e3e3ff"/>
                </a:solidFill>
                <a:latin typeface="EucrosiaUPC"/>
                <a:cs typeface="EucrosiaUPC"/>
              </a:rPr>
              <a:t>พระพุทธศักราช ๒๔๕๗ และกฎหมายอื่น ๆ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5" descr="CIMG9579"/>
          <p:cNvPicPr/>
          <p:nvPr/>
        </p:nvPicPr>
        <p:blipFill>
          <a:blip r:embed="rId1"/>
          <a:stretch/>
        </p:blipFill>
        <p:spPr>
          <a:xfrm>
            <a:off x="3108240" y="225360"/>
            <a:ext cx="2994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การปกครองส่วนท้องถิ่น </a:t>
            </a: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ต่อ</a:t>
            </a: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องค์การบริหารส่วนจังหวั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องค์การบริหารส่วนตำบล อยู่ในการกำกับดูแลของนายอำเภ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th-TH" sz="4800" spc="-1" strike="noStrike">
                <a:solidFill>
                  <a:srgbClr val="e3e3ff"/>
                </a:solidFill>
                <a:latin typeface="Arial"/>
              </a:rPr>
              <a:t>รูปแบบการปกครองท้องที่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ประกอบด้ว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หมู่บ้า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ตำบ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อำเภ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th-TH" sz="4400" spc="-1" strike="noStrike">
                <a:solidFill>
                  <a:srgbClr val="e3e3ff"/>
                </a:solidFill>
                <a:latin typeface="Angsana New"/>
              </a:rPr>
              <a:t>มาตรา ๙  ในหมู่บ้านหนึ่งให้มีผู้ใหญ่บ้านคนหนึ่ง และมีผู้ช่วยผู้ใหญ่บ้านฝ่ายปกครอง หมู่บ้านละสองคน เว้นแต่หมู่บ้านใดมีความจำเป็นต้องมีมากกว่าสองคน ให้ขออนุมัติกระทรวงมหาดไทย </a:t>
            </a:r>
            <a:br>
              <a:rPr sz="4400"/>
            </a:br>
            <a:r>
              <a:rPr b="1" lang="th-TH" sz="4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4400" spc="-1" strike="noStrike">
                <a:solidFill>
                  <a:srgbClr val="e3e3ff"/>
                </a:solidFill>
                <a:latin typeface="Angsana New"/>
              </a:rPr>
              <a:t> ในหมู่บ้านใด ผู้ว่าราชการจังหวัดเห็นสมควรให้มีผู้ช่วยผู้ใหญ่บ้านฝ่ายรักษาความสงบ ก็ให้มีได้ตามจำนวนที่กระทรวงมหาดไทยจะเห็นสมควร</a:t>
            </a:r>
            <a:br>
              <a:rPr sz="4400"/>
            </a:br>
            <a:r>
              <a:rPr b="1" lang="th-TH" sz="4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4400" spc="-1" strike="noStrike">
                <a:solidFill>
                  <a:srgbClr val="e3e3ff"/>
                </a:solidFill>
                <a:latin typeface="Angsana New"/>
              </a:rPr>
              <a:t> ผู้ใหญ่บ้านจะได้รับเงินเดือน แต่มิใช่จากเงินงบประมาณประเภทเงินเดือน ส่วนผู้ช่วยผู้ใหญ่บ้านฝ่ายรักษาความสงบและ   ผู้ช่วยผู้ใหญ่บ้านฝ่ายปกครอง จะได้รับเงินตอบแทนตามที่กระทรวงมหาดไทยกำหนด</a:t>
            </a:r>
            <a:br>
              <a:rPr sz="4400"/>
            </a:b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24360" y="4869000"/>
            <a:ext cx="77724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e3e3ff"/>
                </a:solidFill>
                <a:latin typeface="Angsana New"/>
              </a:rPr>
              <a:t>มาตรา ๑๐ ผู้ใหญ่บ้านมีอำนาจหน้าที่ปกครองบรรดาราษฎรที่อยู่ในเขตหมู่บ้าน</a:t>
            </a:r>
            <a:br>
              <a:rPr sz="4800"/>
            </a:br>
            <a:r>
              <a:rPr b="1" lang="th-TH" sz="48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e3e3ff"/>
                </a:solidFill>
                <a:latin typeface="Angsana New"/>
              </a:rPr>
              <a:t> </a:t>
            </a:r>
            <a:br>
              <a:rPr sz="48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24360" y="4869000"/>
            <a:ext cx="77724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มาตรา ๑๑ ราษฎรผู้มีสิทธิเลือกผู้ใหญ่บ้านต้องมีคุณสมบัติและไม่มีลักษณะต้องห้ามดังต่อไปนี้</a:t>
            </a:r>
            <a:br>
              <a:rPr sz="4400"/>
            </a:b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๑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มีสัญชาติไทยและมีอายุไม่ต่ำกว่าสิบแปดปีบริบูรณ์ในวันที่ ๑ มกราคม ของปีที่มีการเลือก</a:t>
            </a:r>
            <a:br>
              <a:rPr sz="4400"/>
            </a:b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๒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ไม่เป็นภิกษุ สามเณร นักพรต หรือนักบวช</a:t>
            </a:r>
            <a:br>
              <a:rPr sz="4400"/>
            </a:b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๓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ไม่เป็นคนวิกลจริต หรือจิตฟั่นเฟือนไม่สมประกอบ</a:t>
            </a:r>
            <a:br>
              <a:rPr sz="4400"/>
            </a:b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๔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0" lang="th-TH" sz="4400" spc="-1" strike="noStrike">
                <a:solidFill>
                  <a:srgbClr val="e3e3ff"/>
                </a:solidFill>
                <a:latin typeface="Angsana New"/>
              </a:rPr>
              <a:t>มีภูมิลำเนาหรือถิ่นที่ประจำ และมีชื่อในทะเบียนบ้านตามกฎหมายว่าด้วยการทะเบียนทะเบียนราษฎร ในหมู่บ้านนั้นติดต่อกันมาแล้วไม่น้อยกว่าสามเดือนจนถึงวันเลือก</a:t>
            </a: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24360" y="4869000"/>
            <a:ext cx="77724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มาตรา ๑๒ ผู้ที่จะได้รับเลือกเป็นผู้ใหญ่บ้านต้องมีคุณสมบัติและไม่มีลักษณะต้องห้ามดังต่อไปนี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มีสัญชาติไทยโดยการเกิ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อายุไม่ต่ำกว่ายี่สิบห้าปีบริบูรณ์ในวันรับเลือ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มีภูมิลำเนาหรือถิ่นที่อยู่เป็นประจำและมีชื่อในทะเบียนบ้านตามกฎหมายว่าด้วยการทะเบียนราษฎรในหมู่บ้านนั้นติดต่อกันมาแล้วไม่น้อยกว่าสองปีจนถึงวันเลือกและเป็นผู้ที่ประกอบอาชีพเป็นหลักฐา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เป็นผู้เลื่อมในในการปกครองตามรัฐธรรมนูญด้วยความบริสุทธิ์ใ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ไม่เป็นภิกษุ สามเณร นักพรต หรือนักบว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431640"/>
            <a:ext cx="8229600" cy="739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๖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ไม่เป็นผู้มีร่างกายทุพพลภาพจนไม่สามารถปฏิบัติหน้าที่ได้วิกลจริตจิตฟั่นเฟือน ไม่สมประกอบ ติดยาเสพติดให้โทษ หรือเป็นโรคตามที่รัฐมนตรีว่าการกระทรวงมหาดไทยประกาศกำหนดในราชกิจจานุเบกษ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๗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4400" spc="-1" strike="noStrike">
                <a:solidFill>
                  <a:srgbClr val="ffffff"/>
                </a:solidFill>
                <a:latin typeface="Arial"/>
              </a:rPr>
              <a:t>ไม่เป็นสมาชิกรัฐสภา สมาชิกสภาท้องถิ่นหรือผู้บริหารท้องถิ่น ข้าราชการการเมือง ข้าราชการประจำ พนักงาน เจ้าหน้าที่หรือลูกจ้างของหน่วยงานของรัฐ หรือของรัฐวิสาหกิจ หรือขององค์กรปกครองส่วนท้องถิ่น หรือลูกจ้างของส่วนราชการ หรือลูกจ้างของเอกชนซึ่งมีหน้าที่ทำงานประจ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๘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เป็นผู้มีอิทธิพลหรือเสียชื่อในทางพาลหรือทางทุจริ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หรือเสื่อมเสียในทางศีลธรร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๙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เป็นผู้เคยถูกให้ออก ปลดออก หรือไล่ออกจากราช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หน่วยงานของรัฐ รัฐวิสาหกิจ หรือองค์กรปกครองส่วนท้องถิ่น เพรา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ทุจริตต่อหน้าที่ และยังไม่พ้นกำหนดเวลาสิบปีนับแต่วันถูกให้อ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ปลดออก หรือไล่อ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๐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เป็นผู้เคยต้องจำคุกโดยคำพิพากษาถึงที่สุด เว้นแต่เป็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โทษสำหรับความผิดที่กระทำโดยประมาท หรือความผิดลหุโทษ และยั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พ้นกำหนดเวลาสิบปีนับแต่วันพ้นโท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๑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เป็นผู้เคยต้องคำพิพากษาถึงที่สุดว่ากระทำผิดเกี่ยวกั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ฎหมายว่าด้วยป่าไม้ กฎหมายว่าด้วยป่าสงวนแห่งชาติ กฎหมายว่า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สงวนและคุ้มครองสัตว์ป่า กฎหมายว่าด้วยอุทยานแห่งชาติ กฎหมา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ว่าด้วยศุลกากร กฎหมายว่าด้วยอาวุธปืน เครื่องกระสุนปืน วัตถุระเบ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ดอกไม้เพลิง และสิ่งเทียมอาวุธปืน ในฐานความผิดเกี่ยวกับอาวุธปื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ครื่องกระสุนปืน หรือวัตถุระเบิดที่นายทะเบียนไม่อาจออกใบอนุญาตให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ด้ กฎหมายว่าด้วยที่ดิน ในฐานความผิดเกี่ยวกับที่สาธารณประโยชน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ฎหมายว่าด้วยยาเสพติด กฎหมายว่าด้วยการเลือกตั้ง และกฎหมายว่า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พนัน ในฐานความผิดเป็นเจ้ามือหรือเจ้าสำนั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๒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เป็นผู้เคยถูกให้ออกจากตำแหน่งตามมาตรา ๑๔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๖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หรือ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๗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และยังไม่พ้นกำหนดเวลาสิบปีนับแต่วันที่ถูกให้อ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๓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เป็นผู้เคยถูกลงโทษให้ออก ปลดออก หรือไล่อ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จากตำแหน่งกำนัน ผู้ใหญ่บ้าน แพทย์ประจำตำบล หรือผู้ช่วยผู้ใหญ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ามกฎหมายว่าด้วยระเบียบข้าราชกรพลเรือน และยังไม่พ้นกำหน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วลาสิบปีนับแต่วันถูกให้ออก ปลดออก หรือไล่อ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ัฐธรรมนูญเป็นกฎหมายสูงสุดที่ใช้ในการปกครองประเทศ แบ่งอำนาจออกเป็น ๓ อำนาจ ค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ำนาจนิติบัญญัติ คือ รัฐสภา ทำหน้าที่ออกกฎหมาย ประกอบด้วย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ว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ำนาจบริหาร คือ รัฐบาลหรือคณะรัฐมนตรี ทำหน้าที่ในการบริหารประเทศ ประกอบด้วย นายกรัฐมนตรี และ รัฐมนตรีอีกไม่เกิน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คน รัฐมนตรีอีกไม่เกิน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ค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ำนาจตุลาการ คือ อำนาจในการพิจารณาพิพากษาคดีของศาลต่า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๔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ีพื้นความรู้ไม่ต่ำกว่าการศึกษาภาคบังคับ หรือที่กระทรว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ศึกษาธิการเทียบไม่ต่ำกว่าการศึกษาภาคบังคับ เว้นแต่ในท้องที่ใดไม่อา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ลือกผู้มีพื้นความรู้ดังกล่าวได้ ผู้ว่าราชการจังหวัดโดยอนุมัติ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ว่าการกระทรวงมหาดไทย อาจประกาศในราชกิจจานุเบกษายกเว้นหร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่อนผัน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๕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เป็นผู้อยู่ในระหว่างเสียสิทธิในกรณีที่ไม่ไปใช้สิทธ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ลือกตั้งหรือถูกเพิกถอนสิทธิเลือกตั้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๑๔ ผู้ใหญ่บ้านต้องพ้นจากตำแหน่งด้วยเหตุใดเหตุหนึ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ดังต่อไปนี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ีอายุครบหกสิบป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าดคุณสมบัติหรือมีลักษณะต้องห้ามตามมาตรา ๑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ว้นแต่ในกรณีที่ได้รับอนุญาตจากผู้ว่าราชการจังหวัดให้ลาอุปสมบทหร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รพชาตามประเพณี มิให้ถือว่ามีลักษณะต้องห้ามตามมาตรา ๑๒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า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ด้รับอนุญาตจากนายอำเภอให้ลาอ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หมู่บ้านที่ปกครองถูกยุ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๖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มื่อราษฎรผู้มีคุณสมบัติและไม่มีลักษณะต้องห้ามตามมาตร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๑ ในหมู่บ้านนั้นจำนวนไม่น้อยกว่ากึ่งหนึ่งของราษฎรผู้มีคุณสมบัติแล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มีลักษณะต้องห้ามตามมาตรา ๑๑ ทั้งหมด เข้าชื่อกันขอให้ออกจา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ำแหน่ง ในกรณีเช่นนี้ให้นายอำเภอสั่งให้พ้นจากตำแหน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๗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สั่งให้พ้นจากตำแหน่ง เมื่อได้รับรายง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สอบสวนของนายอำเภอว่าบกพร่องในหน้าที่ หรือประพฤติไม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หมาะสมกับตำแหน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๘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ปเสียจากหมู่บ้านที่ตนปกครองติดต่อกันเกินสามเดื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ว้นแต่เมื่อมีเหตุอันสมควรและได้รับอนุญาตจากนาย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๙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าดการประชุมประจำเดือนของกำนัน ผู้ใหญ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ที่นายอำเภอเรียกประชุมสามครั้งติดต่อกันโดยไม่มีเหตุอันคว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๐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ถูกปลดออกหรือไล่ออกจากตำแหน่ง เนื่องจากกระทำผ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วินัยร้ายแร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๑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ผ่านการประเมินผลการปฏิบัติหน้าที่ ซึ่งต้องทำอย่างน้อ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ทุกห้าปีนับแต่วันที่ได้รับการแต่งตั้ง ทั้งนี้ ตามหลักเกณฑ์และวิธี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ที่กระทรวงมหาดไทยกำหนดโดยประกาศในราชกิจจานุเบกษ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นกรณีที่ผู้ใหญ่บ้านพ้นจากตำแหน่งตาม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๘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ห้รายง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ทราบโดยเร็ว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๑๕ ผู้ใหญ่บ้านและกำนันท้องที่ร่วมกันพิจารณาคัดเลื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ราษฎรซึ่งมีคุณสมบัติตามมาตรา ๑๖ เป็นผู้ช่วยผู้ใหญ่บ้านฝ่ายปกคร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และผู้ช่วยผู้ใหญ่บ้านฝ่ายรักษาความสง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๑๖ ผู้มีสิทธิจะได้รับเลือกเป็นผู้ช่วยผู้ใหญ่บ้านฝ่า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ปกครอง หรือผู้ช่วยผู้ใหญ่บ้านฝ่ายรักษาความสงบ ต้องมีคุณสมบัติแล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ม่มีลักษณะต้องห้ามตามมาตรา ๑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๑๘ ผู้ช่วยผู้ใหญ่บ้านฝ่ายปกครองและผู้ช่วยผู้ใหญ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ฝ่ายรักษาความสงบอยู่ในตำแหน่งคราวละห้าป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นอกจากออกจากตำแหน่งตามวาระ ผู้ช่วยผู้ใหญ่บ้านฝ่ายปกคร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และผู้ช่วยผู้ใหญ่บ้านฝ่ายรักษาความสงบต้องออกจากตำแหน่งเพรา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าดคุณสมบัติหรือมีลักษณะต้องห้ามตามมาตรา ๑๒ หรือเพราะเหต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ช่นเดียวกับที่ผู้ใหญ่บ้านต้องออกจากตำแหน่งตามมาตรา ๑๔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ถึง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๗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ถ้าตำแหน่งผู้ช่วยผู้ใหญ่บ้านฝ่ายปกครองหรือผู้ช่วยผู้ใหญ่บ้านฝ่า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รักษาความสงบว่างลงให้มีการคัดเลือกผู้ช่วยผู้ใหญ่บ้านฝ่ายปกครองหร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ช่วยผู้ใหญ่บ้านฝ่ายรักษาความสงบแทน และให้นำความในความใ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๑๕ มาตรา ๑๖ และมาตรา ๑๗ มาใช้บังคับโดยอนุโล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ผู้ซึ่งได้รับคัดเลือกตามวรรคสามอยู่ในตำแหน่งตามวาระของผู้ซึ่งตนแท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มื่อผู้ใหญ่ต้องออกจากตำแหน่งไม่ว่าด้วยเหตุใด ให้ผู้ช่วยผู้ใหญ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้านฝ่ายปกครองและผู้ช่วยผู้ใหญ่บ้านฝ่ายรักษาความสงบต้องออกจา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ำแหน่งด้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4560" y="415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e3e3ff"/>
                </a:solidFill>
                <a:latin typeface="Angsana New"/>
              </a:rPr>
              <a:t>มาตรา ๒๗ ผู้ใหญ่บ้านทำหน้าที่ช่วยเหลือนายอำเภอในการปฏิบัติหน้าที่และเป็นหัวหน้าราษฎรในหมู่บ้านของตน และมีอำนาจหน้าที่ดังต่อไปนี้ด้วย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838080" y="2133720"/>
            <a:ext cx="77724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e3e3ff"/>
                </a:solidFill>
                <a:latin typeface="Angsana New"/>
              </a:rPr>
              <a:t>             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๑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อำนวยความเป็นธรรมและดูแลรักษาความสงบเรียบร้อย    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และความปลอดภัยแก่ราษฎรในหมู่บ้าน</a:t>
            </a:r>
            <a:br>
              <a:rPr sz="3200"/>
            </a:b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๒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สร้างความสมานฉันท์และความสามัคคีให้เกิดขึ้นในหมู่บ้าน รวมทั้งส่งเสริมวัฒนธรรมและประเพณีในท้องที่</a:t>
            </a:r>
            <a:br>
              <a:rPr sz="3200"/>
            </a:b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๓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ประสานหรืออำนวยความสะดวกแก่ราษฎรในหมู่บ้านในการติดต่อหรือรับบริการกับส่วนราชการ หน่วยงานของรัฐ องค์กรปกครองส่วนท้องถิ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245880"/>
            <a:ext cx="8642160" cy="64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๔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รับฟังปัญหาและนำความเดือดร้อน ทุกข์สุขและความต้องการที่จำเป็นของราษฎรในหมู่บ้าน แจ้งต่อส่วนราชการ หน่วยงานของรัฐ องค์กรปกครองส่วนท้องถิ่น หรือองค์กรอื่นที่เกี่ยวข้อง เพื่อให้ช่วยแก้ไขหรือช่วยเหลือ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  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๕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ให้การสนับสนุน ส่งเสริม และอำนวยความสะดวกในการปฏิบัติหน้าที่หรือการให้บริการของส่วนราชการ หน่วยงานของรัฐ หรือองค์กรปกครองส่วนท้องถิ่น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 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๖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ควบคุมดูแลราษฎรในหมู่บ้านให้ปฏิบัติเป็นไปตามกฎหมายหรือระเบียบแบบแผนของทางราชการ โดยกระทำตนให้เป็นตัวอย่างแก่ราษฎรตามที่ทางราชการได้แนะน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59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๗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อบรมหรือชี้แจงให้ราษฎรมีความรู้ความเข้าใจในข้อราชการ กฎหมาย หรือระเบียบแบบแผนของทางราชการ ในการนี้ สามารถเรียกราษฎรมาประชุมได้ตามสมควร</a:t>
            </a: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๘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แจ้งให้ราษฎรให้ความช่วยเหลือในกิจการสาธารณประโยชน์เพื่อบำบัดปัดป้องภยันตรายสาธารณะอัน      มีมาโดยฉุกเฉิน รวมตลอดทั้งการช่วยเหลือบรรเทาทุกข์แก่ผู้ประสบภัย</a:t>
            </a: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๙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จัดให้มีการประชุมราษฎรและคณะกรรมการหมู่บ้าน</a:t>
            </a: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เป็นประจำอย่างน้อยเดือนละหนึ่งครั้ง</a:t>
            </a:r>
            <a:endParaRPr b="0" lang="en-US" sz="39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๑๐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ปฏิบัติตามคำสั่งของกำนันหรือทางราชการและรายงานเหตุการณ์ที่ไม่ปกติซึ่งเกิดขึ้นในหมู่บ้านให้กำนันทราบ พร้อมทั้งรายงานต่อนายอำเภอด้วย</a:t>
            </a:r>
            <a:br>
              <a:rPr sz="3400"/>
            </a:b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๑๑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ปฏิบัติตามภารกิจหรือรายงานอื่นตามกฎหมายหรือระเบียบแบบแผนของทางราชการ หรือตามที่กระทรวง ทบวง กรม หน่วยงานอื่นของรัฐ ผู้ว่าราชการจังหวัด หรือนายอำเภอมอบหมาย</a:t>
            </a: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ฝ่ายบริหาร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ะเบียบบริหารราชการแผ่นดิน เป็นกฎหมายที่วางหลักในการบริหารราชการของประเทศ โดยแบ่งออกเป็น ๓ ส่วน ค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าชการบริหารส่วนกลา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าชการบริหารส่วนภูมิภา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าชการบริหารส่วนท้องถิ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e3e3ff"/>
                </a:solidFill>
                <a:latin typeface="Angsana New"/>
              </a:rPr>
              <a:t>มาตรา ๒๘ ผู้ใหญ่บ้านมีหน้าที่และอำนาจในการที่เกี่ยวกับความอาญาดังต่อไปนี้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5440" y="2356920"/>
            <a:ext cx="8532720" cy="32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้อ ๑ เมื่อทราบข่าวว่ามีการกระทำผิดกฎหมายเกิดขึ้น หรือสงสัยว่า     ได้เกิดขึ้นในหมู่บ้านของตน ต้องแจ้งความต่อกำนันนายตำบลให้ทรา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้อ ๒ เมื่อทราบข่าวว่ามีการกระทำผิดกฎหมายเกิดขึ้น หรือสงสัยว่าได้เกิดขึ้นในหมู่บ้านของตน ต้องแจ้งความต่อผู้ใหญ่บ้านนั้นให้ทรา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้อ ๓ เมื่อตรวจพบของกลางที่ผู้ที่กระทำผิดกฎหมายมีอยู่ก็ดี หรือมีเหตุควรสงสัยว่าเป็นผู้ที่ได้กระทำผิดกฎหมายก็ดี ให้จับตัวผู้นั้นไว้ และรีบนำส่งต่อกำนั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192240"/>
            <a:ext cx="8785440" cy="43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ข้อ ๔ เมื่อปรากฏว่าผู้ใดกำลังกระทำผิดกฎหมายก็ดี หรือมีเหตุควร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สงสัยว่า เป็นผู้ที่ได้กระทำผิดกฎหมายก็ดี ให้จัดตัวผู้นั้นไว้และรีบนำส่งต่อ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กำนันนายตำบล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ข้อ ๕ ถ้ามีหมายหรือคำสั่งตามหน้าที่ราชการ ให้จับผู้ใด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ในหมู่บ้านนั้นเป็นหน้าที่ของผู้ใหญ่บ้านที่จะจับผู้นั้นและรีบนำส่งต่อกำนัน หรือกรมการอำเภอตามสมควร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ข้อ ๖ เมื่อเจ้าพนักงานผู้มีหน้าที่ออกหมายสั่งให้ค้นหรือให้ยึด ผู้ใหญ่บ้านต้องจัดการให้เป็นไปตามหมาย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e3e3ff"/>
                </a:solidFill>
                <a:latin typeface="Arial"/>
              </a:rPr>
              <a:t>มาตรา ๒๘ ทวิ ผู้ช่วยผู้ใหญ่บ้านฝ่ายปกครองมีอำนาจหน้าที่ดังต่อไปนี้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4760" y="244008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ช่วยเหลือผู้ใหญ่บ้านปฏิบัติภารกิจการตามอำนาจหน้าที่ของผู้ใหญ่บ้านเท่าที่ได้รับมอบหมายจากผู้ใหญ่บ้านให้กระท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สนอข้อแนะนำและให้คำปรึกษาต่อผู้ใหญ่บ้าน ในกิจการที่ผู้ใหญ่บ้านมีอำนาจหน้า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5011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ผู้ช่วยผู้ใหญ่บ้านฝ่ายรักษาความสงบมีอำนาจหน้าที่ดังต่อไปนี้</a:t>
            </a:r>
            <a:br>
              <a:rPr sz="3400"/>
            </a:b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๑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ตรวจตรารักษาความสงบเรียบร้อยภายในหมู่บ้าน</a:t>
            </a:r>
            <a:br>
              <a:rPr sz="3400"/>
            </a:b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(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๒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) 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ถ้ารู้เห็นหรือทราบว่าเหตุการณ์อันใดเกิดขึ้นหรือจะเกิดขึ้นใน    หมู่บ้านเกี่ยวกับความสงบเรียบร้อย ให้นำความแจ้งต่อผู้ใหญ่บ้าน</a:t>
            </a:r>
            <a:br>
              <a:rPr sz="3400"/>
            </a:b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ถ้าเหตุการณ์ตามวรรคหนึ่งเกิดขึ้นหรือจะเกิดขึ้นในหมู่บ้านใกล้เคียง ให้นำความแจ้งต่อผู้ใหญ่บ้านในท้องที่นั้นและรายงานให้ผู้ใหญ่บ้านของตนทราบ</a:t>
            </a:r>
            <a:br>
              <a:rPr sz="3400"/>
            </a:b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189000"/>
            <a:ext cx="86900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๓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ถ้ามีคนจรเข้ามาในหมู่บ้านและสงสัยว่าไม่ได้มาโดยสุจริตให้นำตัวส่งผู้ใหญ่บ้าน</a:t>
            </a: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๔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เมื่อมีเหตุร้ายเกิดขึ้นในหมู่บ้าน ต้องระงับเหตุ ปราบปรามติดตามจับผู้ร้ายโดยเต็มกำลัง</a:t>
            </a: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๕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เมื่อตรวจพบหรือตามจับได้สิ่งของใดที่มีไว้เป็นความผิดหรือได้ใช้หรือมีไว้เพื่อใช้ในการกระทำความผิดหรือได้มาโดยการกระทำความผิด ให้รีบนำส่งผู้ใหญ่บ้าน</a:t>
            </a: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๖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เมื่อมีเหตุอันควรสงสัยว่าผู้ใดได้กระทำความผิด และกำลังจะหลบหนีให้ควบคุมตัวส่งผู้ใหญ่บ้าน</a:t>
            </a:r>
            <a:br>
              <a:rPr sz="3900"/>
            </a:b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๗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)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ปฏิบัติตามคำสั่งของผู้ใหญ่บ้านซึ่งสั่งการโดยชอบด้วยกฎหมาย</a:t>
            </a:r>
            <a:endParaRPr b="0" lang="en-US" sz="39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040" y="376200"/>
            <a:ext cx="889308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900" spc="-1" strike="noStrike">
                <a:solidFill>
                  <a:srgbClr val="e3e3ff"/>
                </a:solidFill>
                <a:latin typeface="Angsana New"/>
              </a:rPr>
              <a:t> </a:t>
            </a:r>
            <a:br>
              <a:rPr sz="3900"/>
            </a:br>
            <a:r>
              <a:rPr b="0" lang="th-TH" sz="39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มาตรา ๒๘ ตรี ในหมู่บ้านหนึ่งให้มีคณะกรรมการหมู่บ้านประกอบด้วยผู้ใหญ่บ้านเป็นประธาน ผู้ช่วยผู้ใหญ่บ้าน สมาชิกสภาองค์กรปกครองส่วนท้องถิ่นทีมีภูมิลำเนาในหมู่บ้าน ผู้นำหรือผู้แทนกลุ่มหรือองค์กรในหมู่บ้านเป็นกรรมการหมู่บ้านโดยตำแหน่ง และกรรมการหมู่บ้านผู้ทรงคุณวุฒิจำนวนไม่น้อยกว่าสองคนแต่ไม่เกินสิบคน  </a:t>
            </a:r>
            <a:br>
              <a:rPr sz="3400"/>
            </a:b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คณะกรรมการหมู่บ้านมีหน้าที่ช่วยเหลือแนะนำ และให้คำปรึกษาแก่ผู้ใหญ่บ้านเกี่ยวกับกิจการอันเป็นอำนาจหน้าที่ของผู้ใหญ่บ้าน และปฏิบัติหน้าที่อื่นตามกฎหมาย หรือระเบียบแบบแผนของทางราชการ หรอที่นายอำเภอมอบหมาย หรือผู้ใหญ่บ้านร้องขอ</a:t>
            </a:r>
            <a:br>
              <a:rPr sz="3400"/>
            </a:b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ให้คณะกรรมการหมู่บ้านเป็นองค์การหลักที่รับผิดชอบในการบูรณาการจัดทำแผนพัฒนาหมู่บ้าน และบริหารจัดการกิจกรรมที่ดำเนินงานในหมู่บ้านร่วมกับองค์กรอื่นทุกภาคส่วน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...</a:t>
            </a: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นำหรือผู้แทนกลุ่มหรือองค์กรใดจะมีสิทธิเป็นกรรม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หมู่บ้านตามวรรคหนึ่ง ให้เป็นไปตามหลักเกณฑ์ที่กระทรวงมหาดไท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ำหนดโดยประกาศในราชกิจจานุเบกษ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รรมการหมู่บ้านผู้ทรงคุณวุฒิต้องมีคุณสมบัติเช่นเดียวกั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มีสิทธิเลือกผู้ใหญ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วิธีการเลือกและการแต่งตั้ง วาระการดำรงตำแหน่ง และการพ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จากตำแหน่งของกรรมการหมู่บ้านผู้ทรงคุณวุฒิ และการปฏิบัติหน้า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ประชุม และการวินิจฉัยชี้ขาด ของคณะกรรมการหมู่บ้านให้เป็นไ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ามหลักเกณฑ์และวิธีการที่กระทรวงมหาดไทยกำหนดโดยประกาศใ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ราชกิจจานุเบกษ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ค่าใช้จ่ายในการประชุมคณะกรรมการหมู่บ้าน ให้กระทรว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หาดไทยจ่ายเป็นเงินอุดหนุน ให้ตามหลักเกณฑ์ที่กระทรวงมหาดไท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ำหนดโดยประกาศในราชกิจจานุเบกษ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๒๙ ทวิ ในตำบลหนึ่งให้มีกำนันคนหนึ่ง มีอำนาจหน้า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ปกครองราษฎรที่อยู่ในเขตตำบลนั้น กำนันจะได้รับเงินเดือนแต่มิใช่เง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จากงบประมาณประเภทเงินเดื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มาตรา ๓๑ กำนันต้องออกจากตำแหน่งด้วยเหตุใดเหตุหนึ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มื่อต้องออกจากผู้ใหญ่บ้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ได้รับอนุญาตให้ลาอ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ยุบตำบลที่ปกคร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มื่อข้าหลวงประจำจังหวัดสั่งให้ออกจากตำแหน่ง เพร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พิจารณาเห็นว่าบกพร่องในทางความประพฤติ หรือความสามารถ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พอแก่ตำแหน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ต้องถูกปลดหรือไล่ออกจากตำแหน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ารออกจากตำแหน่งกำนันนั้นให้ออกจากตำแหน่งผู้ใหญ่บ้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ด้วย เว้นแต่การออกตาม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 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และ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ไม่ต้องออกจากตำแหน่งผู้ใหญ่บ้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741240"/>
            <a:ext cx="7772400" cy="52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มาตรา ๓๔  บรรดาการที่จะตรวจตรารักษาความเป็นปกติเรียบร้อยในตำบล คือการที่จะว่ากล่าวราษฎรในตำบลนั้น ให้ประพฤติตามพระราชกำหนดกฎหมายก็ดีหรือการที่จะป้องกันภยันตรายและรักษาความสงบสุขสำราญของราษฎรในตำบลนั้นก็ดีหรือการที่จะรับกิจสุขทุกข์ของราษฎรในตำบลนั้นขึ้นร้องเรียนต่อผู้ว่าราชการเมืองกรมการอำเภอ และจะรับข้อราชการมาประกาศแก่ราษฎรในตำบลนั้นก็ดี หรือที่จัดการตามพระราชกำหนดกฎหมาย เช่น การตรวจและนำเก็บภาษีอากรในตำบลนั้นก็ดี การทั้งนี้อยู่ในหน้าที่ของกำนันผู้เป็นนายตำบล ผู้ใหญ่บ้านทั้งปวงในตำบลนั้นและแพทย์ประจำตำบลจะต้องช่วยกันเอาเป็นธุระจัดการให้เรียบร้อยได้ตามสมควรแก่หน้าที่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ราชการบริหารส่วนกลาง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ประกอบด้ว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สำนักนายกรัฐมนตร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กระทรวง ปัจจุบัน มี ๒๐ กระทรว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ทบว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กรม หรือส่วนราชการที่เรียกชื่ออย่างอื่นและมีฐานะเป็นกรม ซึ่งสังกัดหรือไม่สังกัดสำนักนายก กระทรวง ทบวง กร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15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rial"/>
              </a:rPr>
              <a:t>มาตรา ๓๔ ทวิ นอกจากอำนาจหน้าที่ที่กล่าวโดยเฉพาะ ให้เป็นอำนาจหน้าที่ของกำนัน ให้กำนันเมื่อมีอำนาจหน้าที่เช่นเดียวกับผู้ใหญ่บ้านด้วย</a:t>
            </a: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00000" y="2190240"/>
            <a:ext cx="76327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๓๕ กำนันมีหน้าที่และอำนาจในการที่เกี่ยวด้วยความอาญา ดังต่อไปนี้ค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้อ ๑ เมื่อทราบข่าวว่ามีการกระทำผิดกฎหมายเกิดขึ้น หรือสงสัยว่าได้เกิดขึ้นในตำบลของตนต้องแจ้งความต่อกรมการอำเภอทรา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้อ ๒ เมื่อทราบข่าวว่ามีการกระทำผิดกฎหมายเกิดขึ้น หรือสงสัยว่าได้เกิดขึ้นในตำบลที่ใกล้เคียง ต้องแจ้งความต่อกำนันในตำบลนั้นให้ทรา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7480" y="81576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ข้อ ๓ เมื่อปรากฏว่าผู้ใดกำลังกระทำผิดกฎหมายก็ดีหรือ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มีเหตุควรสงสัยว่าเป็นผู้ที่กระทำความผิดกฎหมายก็ดี ให้จับผู้นั้นได้ และรีบนำส่งต่อกรมการอำเภอ 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ข้อ ๔ ถ้ามีหมายหรือมีคำสั่งตามหน้าที่ราชการให้จับผู้ใดในตำบลนั้นเป็นหน้าที่ของกำนันที่จะจับผู้นั้นแล้วรีบนำส่งต่อกรมการอำเภอตามสมควร</a:t>
            </a:r>
            <a:br>
              <a:rPr sz="3200"/>
            </a:b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ข้อ ๕ เมื่อเจ้าพนักงานผู้มีหน้าที่ออกหมายสั่งให้ค้นหรือให้ยึดกำนันต้องจัดการให้เป็นไปตามกฎหมาย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1384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ข้อ ๖ ถ้ามีผู้มาขออายัดตัวคนหรือสิ่งของก็ดี หรือผู้ต้องโจรกรรมจะทำกฎหมายตราสินหรือมีผู้จะมาขอชัยสูตรบาดแผลก็ดี ทั้งนี้ให้กำนันสืบสวนฟังข้อความแล้วรีบนำตัวผู้ขอและผู้ต้องอายัดและทรัพย์สินของบรรดาที่จะพาไปด้วยนั้นไปยังกรมการอำเภอถ้าสิ่งของอย่างใดจะพาไปไม่ได้ ก็ให้กำนันชันสูตรให้รู้เห็นแล้วความไปแจ้งต่อกรมการอำเภอในขณะนั้น</a:t>
            </a:r>
            <a:r>
              <a:rPr b="0" lang="th-TH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rial"/>
              </a:rPr>
              <a:t>มาตรา ๓๖ ถ้ากำนันรู้เห็นเหตุทุกข์ร้อนของราษฎร หรือการแปลกประหลาดเกิดขึ้นในตำบลต้องรีบรายงานต่อกรมการอำเภอให้ทราบ</a:t>
            </a: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6560" y="1971720"/>
            <a:ext cx="799308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๓๗ ถ้าเกิดจลาจลก็ดี ฆ่ากันตายก็ดี ปล้นทรัพย์ก็ดีหรือเหตุร้ายสำคัญอย่างใดๆ ในตำบลของตน หรือในตำบลที่ใกล้เคีย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อันสมควรจะช่วยได้ก็ดี หรือมีผู้ร้ายแต่ที่อื่นๆ มามั่วสุมในตำบลนั้นก็ดี หรือมีเหตุอันควรว่าลูกบ้านในตำบลนั้น บางคนจะเกี่ยวข้องเป็นโจรผู้ร้ายก็ดี เป็นหน้าที่ของกำนันจะต้องเรียกผู้ใหญ่บ้านและลูกบ้านในตำบลออกช่วยต่อสู้ติดตามจับผู้ร้าย หรือติดตามเอาของกลางคืน หรือดับไฟหรือช่วยอย่างอื่นตามควรแก่การโดยเต็มกำลั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7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๓๘ ให้กำนันดูแลคนเดินทาง ซึ่งไม่มีเหตุควรสงสัยว่าจะเป็นผู้ร้ายให้ได้มีที่พักตามสมควร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1360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๓๙ ถ้าผู้เดินทางด้วยราชการจะต้องการคนนำทาง หรือขาดแคลนพาหนะเสบียงอาหารลงในระหว่างทาง และจะร้องขอต่อกำนันให้ช่วยสงเคราะห์ กำนันต้องช่วยจัดหาให้ตามที่จะทำได้ ถ้าหากว่าการที่จะช่วยเหลือนั้นจะต้องออกราคาค่าจ้างเพียงใดให้กำนันเรียกเอาแก่ผู้เดินทาง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701640" y="4127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๔๐ กำนันต้องร่วมมือและช่วยเหลือนายอำเภอและองค์กรปกครองส่วนท้องถิ่นในการดูแลรักษาและคุ้มครองป้องกันที่ดินอันเป็นสาธารณสมบัติของแผ่นดิน และสิ่งซึ่งเป็นสาธารณประโยชน์อื่นอันอยู่ในตำบล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13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400" spc="-1" strike="noStrike">
                <a:solidFill>
                  <a:srgbClr val="e3e3ff"/>
                </a:solidFill>
                <a:latin typeface="Angsana New"/>
              </a:rPr>
              <a:t>มาตรา ๔๑  กำนันต้องรักษาบัญชีสำมะโนครัวและทะเบียนบัญชีของรัฐบาลในตำบลนั้น และคอยแก้ไขเพิ่มเติมให้ถูกต้องตรงกับบัญชีของผู้ใหญ่บ้าน</a:t>
            </a: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83920" y="2036520"/>
            <a:ext cx="799308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๔๓ กำนันกระทำการตามหน้าที่จะเรียกผู้ใดมาหารือให้ช่วยก็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84360" y="3213000"/>
            <a:ext cx="7993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๔๔ ในตำบลหนึ่งให้มีสารวัตรสำหรับเป็นผู้ช่วยและรับใช้สอยของกำนันสองคน ผู้ที่จะเป็นสารวัตรนี้แล้วแต่ที่กำนันจะขอร้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ห้ผู้ใดเป็น แต่ต้องได้รับความเห็นชอบของผู้ว่าราชการเมือง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จึงเป็นได้ และกำนันมีอำนาจเปลี่ยนสารวัตร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๔๕ ในตำบลหนึ่งให้กำนันและผู้ใหญ่บ้านประชุ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พร้อมกันเลือกผู้ที่มีความรู้วิชาแพทย์เป็นแพทย์ประจำตำบลคนหนึ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สำหรับจัดการป้องกันความไข้เจ็บของราษฎรในตำบล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๔๖ การแต่งตั้งแพทย์ประจำตำบลให้ข้าหลวงประจ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จังหวัดแต่งตั้งจากผู้ที่มีถิ่นที่อยู่ในตำบลนั้น เว้นแต่ผู้ที่เป็นแพทย์ประจ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ำบลที่ใกล้เคียงกันอยู่แล้วและยอมกระทำการรวมเป็นสองตำบ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ถ้าข้าหลวงประจำจังหวัดเห็นสมควรก็แต่งตั้ง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18252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๔๘ แพทย์ประจำตำบล มีหน้าที่ดังกล่าวดังต่อไปนี้ คือ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ข้อ ๑ ที่จะช่วยกำนันผู้ใหญ่บ้านคิดอ่าน และจัดการรักษาความสงบเรียบร้อยในตำบลดังกล่าวไว้ในมาตรา ๓๖ และ ๕๒ 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แห่งพระราชบัญญัตินี้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ข้อ ๒ ที่จะคอยสังเกตตรวจตราความไข้เจ็บที่เกิดขึ้นแก่ราษฎร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ในตำบลนั้นและตำบลที่ใกล้เคียง ถ้าเกิดโรคภัยร้ายแรง เช่นอหิวาตกโรคก็ดี กาฬโรคก็ดี ไข้ทรพิษก็ดี ต้องคิดป้องกันด้วย แนะนำกำนันผู้ใหญ่บ้านให้สั่งราษฎรให้จัดการป้องกันโรค เช่น ทำความสะอาด เป็นต้น และแพทย์ประจำตำบลต้องเที่ยวตรวจตราชี้แจงแก่ราษฎรด้วย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7480" y="583920"/>
            <a:ext cx="7772400" cy="51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ข้อ ๓  การป้องกันโรคภัยในตำบลนั้น เช่น ปลูกทรพิษ ป้องกัน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ไข้ทรพิษก็ดีที่จะมียาแก้โรคไว้สำหรับตำบลก็ดี ดูแลอย่าให้ในตำบลนั้นมีสิ่งโสโครกอันเป็นเชื้อโรคก็ดี การเหล่านี้อยู่ในหน้าที่แพทย์ประจำตำบลๆ จะต้องคิดอ่านกับแพทย์ประจำเมือง และกำนันผู้ใหญ่บ้านในตำบลนั้นให้สำเร็จตลอดไป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ข้อ ๔  ถ้าโรคภัยร้ายกาจ เช่น อหิวาตกโรค กาฬโรค ไข้ทรพิษ 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ngsana New"/>
              </a:rPr>
              <a:t>โรคระบาดปศุสัตว์ เกิดขึ้นในตำบลนั้น แพทย์ประจำตำบลต้องรีบรายงานไปยังกรมการอำเภอให้ทราบโดยทันทีและต่อไปเนืองๆจนกว่าจะสงบโร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13800" cy="27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๕๐ เมื่อกำนันเห็นว่ามีการอันใดเนื่องในการรักษาความปกติเรียบร้อยในตำบลสมควรจะปรึกษาหารือกันในระหว่างกำนันผู้ใหญ่บ้านทั้งปวง และแพทย์ประจำตำบลกำนันก็มีอำนาจที่จะเรียกมาประชุมปรึกษาหารือกัน และให้เอาเสียงที่เห็นพร้อมกันโดยมากเป็นที่ชี้ขาดตกลงในการที่ปรึกษาหารือกันนั้น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79280" y="3484440"/>
            <a:ext cx="87138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th-TH" sz="39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๕๑ ให้กำนันเรียกผู้ใหญ่บ้าน และแพทย์ประจำตำบลมาประชุม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เพื่อปรึกษาหารือ การที่รักษาหน้าที่ในตำบลให้เรียบร้อย ไม่น้อยกว่าเดือนละหนึ่งครั้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ราชการบริหารส่วนภูมิภา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คือ การแบ่งอำนาจของราชการส่วนกลาง กระทรวง ทบวง กรมต่าง ๆ ไปให้ส่วนภูมิภาคเพื่อสนองความต้องการของประชาชนในเขตการปกครอง นั้น ๆ แต่มิใช่การกระจายอำนา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เจ้าหน้าที่ส่วนภูมิภาคอยู่ใต้การบังคับบัญชาของส่วนกลา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ราชการบริหารส่วนภูมิภาคได้รับมอบอำนาจวินิจฉัยสั่งการเฉพาะบางเรื่อง บางประการเท่านั้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30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๕๔ ถ้าลูกบ้านผู้ใดไปตั้งทับ กระท่อม หรือเรือนโรงอยู่ในที่เปลี่ยวในตำบลนั้นซึ่งน่ากลัวจะเป็นอันตรายด้วยโจรผู้ร้าย หรือ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น่าสงสัยจะเป็นสำนักโจรผู้ร้าย การอย่างนี้ให้กำนันกับผู้ใหญ่บ้านในตำบลนั้นประชุมปรึกษากันดู เมื่อเห็นเป็นการสมควรแล้วจะบังคับให้ลูกบ้านคนนั้นย้ายเข้ามาอยู่เสียในหมู่บ้านราษฎรก็ได้และให้นำความแจ้งต่อกรมการอำเภอด้วย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24000" y="3300480"/>
            <a:ext cx="82040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๕๕ ถ้าราษฎรคนใดทิ้งให้บ้านเรือนชำรุดรุงรัง หรือปล่อยให้โสโครกโสมม อาจเป็นเหตุให้เกิดอันตรายแก่ผู้ที่อยู่ในที่นั้น หรือผู้ที่อยู่ใกล้เคียงกัน หรือผู้ที่ไปมา หรือให้เกิดอัคคีภัย หรือโรคภัย ให้กำนัน ผู้ใหญ่บ้าน และแพทย์ประจำตำบลปรึกษากัน ถ้าเห็นควรจะบังคับให้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ผู้ที่อยู่ที่นั้นแก้ไขเสียให้ดีก็บังคับได้ ถ้าผู้นั้นไม่ทำตามบังคับ ก็ให้กำนันนำความร้องเรียนต่อกรมการ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600" spc="-1" strike="noStrike">
                <a:solidFill>
                  <a:srgbClr val="e3e3ff"/>
                </a:solidFill>
                <a:latin typeface="Arial"/>
              </a:rPr>
              <a:t>มาตรา ๕๖ ในเวลาใดจะมีอันตรายแก่การทำมาหากกินของลูกบ้านในตำบลนั้น เช่น มีโรคภัยไข้เจ็บติดต่อเกิดขึ้น หรือน้ำมากหรือน้ำน้อยเกินไปเป็นต้น ให้กำนันผู้ใหญ่บ้านและแพทย์ประจำตำบลปรึกษาหารือกันในการที่จะป้องกันแก้ไขเยียวยาภยันตรายด้วยอาการที่แนะนำลูกบ้านให้ทำอย่างใดหรือลงแรงช่วยกันได้ประการใด กำนันมีอำนาจที่จะบังคับการนั้นได้ ถ้าเห็นเป็นการเหลือกำลังให้ร้องเรียนต่อกรมการอำเภอ และผู้ว่าราชการเมืองขอกำลังรัฐบาลช่วย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๖๐ ในเวลาใดมีการนักขัตฤกษ์ หรือประชุมชนเป็นการใหญ่ในตำบลนั้นกำนันจะเรียกผู้ใหญ่บ้านและแพทย์ประจำตำบลพร้อมกันมาช่วยพิทักษ์รักษาความเรียบร้อยในที่อันนั้น ถ้าแลเห็นเป็นการจำเป็นแล้ว จะขอแรงงานราษฎรมาช่วยด้วยก็ได้</a:t>
            </a:r>
            <a:br>
              <a:rPr sz="3200"/>
            </a:b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มาตรา ๖๑ เวลาข้าราชการผู้ใหญ่หรือผู้บังคับบัญชาโดยตรงมา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ตรวจราชการในท้องที่กำนัน จะเรียกผู้ใหญ่บ้านและแพทย์ประจำตำบล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ประชุมพร้อมกันเพื่อแจ้งข้อราชการ หรือฟังราชการก็ได้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๖๑ ทวิ กำนัน ผู้ใหญ่บ้าน และแพทย์ประจำตำบ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้องรักษาวินัยโดยเคร่งครัดอยู่เสมอ ผู้ใดฝ่าฝืนให้ถือว่าผู้นั้นกระทำผ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้องได้รับโท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วินัยและโทษผิดวินัยให้ใช้กฎหมายว่าด้วยระเบียบข้าราช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พลเรือนโดยอนุโล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อำนาจการลงโทษ กำนัน ผู้ใหญ่บ้าน และแพทย์ประจำตำบ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ห้เป็นไปดังนี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ำนันมีอำนาจลงโทษภาคทัณฑ์ผู้ใหญ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นายอำเภอมีอำนาจลงโทษกำนัน ผู้ใหญ่บ้าน และแพทย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ประจำตำบลดังนี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ลดอันดับเงินเดือนไม่เกินหนึ่งอันดั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ัดเงินเดือน โดยเทียบในฐานะเป็นผู้บังคับบัญช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ชั้นหัวหน้าแผนกกับผู้กระทำผิดชั้นเสมียนพนักงาน ตามที่กำหนดไว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นกฎหมายว่าด้วยระเบียบข้าราชการพลเรื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ค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ลงโทษภาคทัณฑ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มื่อกำนันผู้ใหญ่บ้านคนใดถูกฟ้องในคดีอาญา เว้นแต่คดีความผ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นลักษณะฐานลหุโทษหรือความผิดอันได้กระทำโดยประมาท หรือมีกรณ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ที่ต้องหาว่าทำผิดวินัยร้ายแรงถูกสอบสวนเพื่อไล่ออกหรือปลดออก แล้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รายงานให้ข้าหลวงประจำจังหวัดทราบ การสั่งให้กลับเข้ารับหน้าที่ตลอ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ถึงการวินิจฉัยว่าควรจ่ายเงินเดือนระหว่างพักให้เพียงใดหรือไม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ห้ข้าหลวงประจำจังหวัดเป็นผู้พิจารณาสั่งอนุโลมตามกฎหมายว่า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ระเบียบข้าราชการพลเรื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้าหลวงประจำจังหวัดมีอำนาจลงโทษกำนันผู้ใหญ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และแพทย์ประจำตำบลในทุกสถาน ในกรณีการลดอันดับและตัดเงินเดื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ห้เทียบข้าหลวงประจำจังหวัดในฐานะเป็นผู้บังคับบัญชาชั้นหัวหน้าก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และกำนันผู้ใหญ่บ้านแพทย์ประจำตำบลเป็นชั้นเสมียนพนักงานตาม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ำหนดไว้ในกฎหมายว่าด้วยระเบียบข้าราชการพลเรื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โดยเฉพาะโทษปลด หรือไล่ออก ถ้ากำนันผู้ใหญ่บ้านและแพทย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ประจำตำบลผู้ถูกลงโทษเห็นว่าตนไม่ได้รับความเป็นธรรม ก็มีสิทธ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ร้องทุกข์ต่อกระทรวงมหาดไท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ร้องทุกข์ให้ทำคำร้องลงลายมือชื่อยื่นต่อนายอำเภอภายใ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ำหนดสิบห้าวันนับแต่วันที่ได้รับทราบคำสั่งการลงโทษ เพื่อนาย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จักได้เสนอต่อไปยังข้าหลวงประจำจังหวัดและกระทรวงมหาดไท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ามลำดับ ภายในกำหนดสิบห้าวันนับแต่วันได้รับคำร้องทุกข์ พร้อม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คำชี้แจงถ้าจะพึงมี ให้กระทรวงมหาดไทยมีอำนาจสั่งให้ยกคำร้องทุกข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หรือเพิกถอนคำสั่งการลงโทษหรือลดโท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มาตรา ๖๑ ตรี ให้นำความในมาตรา ๖๑ ทวิ เฉพาะที่เกี่ยวกั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ใหญ่บ้านมาใช้บังคับแก่ผู้ช่วยผู้ใหญ่บ้านฝ่ายปกครองและผู้ช่วยผู้ใหญ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ฝ่ายรักษาความสงบโดยอนุโล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46341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บทบาทอำนาจหน้าที่ของกำนัน ผู้ใหญ่บ้า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348000" y="1268280"/>
            <a:ext cx="5113440" cy="648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ารใช้อำนาจหน้าที่ในการปกครองราษฎ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3348000" y="1989000"/>
            <a:ext cx="511344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ารรายงานต่อทางราชการและการ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348000" y="2708280"/>
            <a:ext cx="5113440" cy="6476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ารนำข้อราชการไปประกาศแก่ราษฎ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348000" y="3429000"/>
            <a:ext cx="511344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ิจการสาธารณะประโยชน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3382920" y="4149720"/>
            <a:ext cx="5113440" cy="6476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ารที่เกี่ยวกับคดี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348000" y="4869000"/>
            <a:ext cx="511344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อำนาจหน้าที่ตามกฎหมาย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9" descr="logogif"/>
          <p:cNvPicPr/>
          <p:nvPr/>
        </p:nvPicPr>
        <p:blipFill>
          <a:blip r:embed="rId1"/>
          <a:stretch/>
        </p:blipFill>
        <p:spPr>
          <a:xfrm>
            <a:off x="826920" y="4221000"/>
            <a:ext cx="187344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19"/>
          <p:cNvPicPr/>
          <p:nvPr/>
        </p:nvPicPr>
        <p:blipFill>
          <a:blip r:embed="rId2"/>
          <a:srcRect l="0" t="0" r="10105" b="0"/>
          <a:stretch/>
        </p:blipFill>
        <p:spPr>
          <a:xfrm>
            <a:off x="826920" y="2779560"/>
            <a:ext cx="1882800" cy="1224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12" name="Picture 11" descr="Untitled-6"/>
          <p:cNvPicPr/>
          <p:nvPr/>
        </p:nvPicPr>
        <p:blipFill>
          <a:blip r:embed="rId3"/>
          <a:stretch/>
        </p:blipFill>
        <p:spPr>
          <a:xfrm>
            <a:off x="826920" y="1268280"/>
            <a:ext cx="1872000" cy="1354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star"/>
          <p:cNvPicPr/>
          <p:nvPr/>
        </p:nvPicPr>
        <p:blipFill>
          <a:blip r:embed="rId4"/>
          <a:stretch/>
        </p:blipFill>
        <p:spPr>
          <a:xfrm>
            <a:off x="7956720" y="5877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star"/>
          <p:cNvPicPr/>
          <p:nvPr/>
        </p:nvPicPr>
        <p:blipFill>
          <a:blip r:embed="rId5"/>
          <a:stretch/>
        </p:blipFill>
        <p:spPr>
          <a:xfrm>
            <a:off x="6877080" y="58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star"/>
          <p:cNvPicPr/>
          <p:nvPr/>
        </p:nvPicPr>
        <p:blipFill>
          <a:blip r:embed="rId6"/>
          <a:stretch/>
        </p:blipFill>
        <p:spPr>
          <a:xfrm>
            <a:off x="5724360" y="58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star"/>
          <p:cNvPicPr/>
          <p:nvPr/>
        </p:nvPicPr>
        <p:blipFill>
          <a:blip r:embed="rId7"/>
          <a:stretch/>
        </p:blipFill>
        <p:spPr>
          <a:xfrm>
            <a:off x="4643280" y="5734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star"/>
          <p:cNvPicPr/>
          <p:nvPr/>
        </p:nvPicPr>
        <p:blipFill>
          <a:blip r:embed="rId8"/>
          <a:stretch/>
        </p:blipFill>
        <p:spPr>
          <a:xfrm>
            <a:off x="3708360" y="5734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star"/>
          <p:cNvPicPr/>
          <p:nvPr/>
        </p:nvPicPr>
        <p:blipFill>
          <a:blip r:embed="rId9"/>
          <a:stretch/>
        </p:blipFill>
        <p:spPr>
          <a:xfrm>
            <a:off x="2771640" y="5734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star"/>
          <p:cNvPicPr/>
          <p:nvPr/>
        </p:nvPicPr>
        <p:blipFill>
          <a:blip r:embed="rId10"/>
          <a:stretch/>
        </p:blipFill>
        <p:spPr>
          <a:xfrm>
            <a:off x="1547640" y="5734080"/>
            <a:ext cx="648000" cy="358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star"/>
          <p:cNvPicPr/>
          <p:nvPr/>
        </p:nvPicPr>
        <p:blipFill>
          <a:blip r:embed="rId11"/>
          <a:stretch/>
        </p:blipFill>
        <p:spPr>
          <a:xfrm>
            <a:off x="539640" y="566100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48360" cy="8366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อำนาจหน้าที่การปกครองราษฎร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ปกครองราษฎรในเขตหมู่บ้า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เป็นหัวหน้าราษฎรในหมู่บ้า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อำนวยความเป็นธรรมและรักษาความสงบเรียบร้อยในหมู่บ้า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สร้างความสมานฉันท์และความสามัคคีในหมู่บ้า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กระทำตนเป็นตัวอย่างของราษฎ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yenta4-emoticon-0001"/>
          <p:cNvPicPr/>
          <p:nvPr/>
        </p:nvPicPr>
        <p:blipFill>
          <a:blip r:embed="rId1"/>
          <a:stretch/>
        </p:blipFill>
        <p:spPr>
          <a:xfrm>
            <a:off x="7885080" y="6165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kapook_14782"/>
          <p:cNvPicPr/>
          <p:nvPr/>
        </p:nvPicPr>
        <p:blipFill>
          <a:blip r:embed="rId2"/>
          <a:stretch/>
        </p:blipFill>
        <p:spPr>
          <a:xfrm>
            <a:off x="7380360" y="5445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ถ้ากำนันรู้เห็นเหตุทุกข์ร้อนของราษฎร หรือแปลกประหลาดเกิดขึ้นในตำบลต้องรีบรายงานต่อกรมการอำเภอให้ทรา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ปฏิบัติตามคำสั่งของกำนันหรือทางราชการและราบงายงานเหตุการณ์ที่ไม่ปกติซึ่งเกิดขึ้นในหมู่บ้านให้กำนัน อำเภอทรา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ประสานหรืออำนวยความสะดวกแก่ราษฎรในหมู่บ้านในการติดต่อหรือขอรับบริการกับส่วน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0" y="44280"/>
            <a:ext cx="6877080" cy="10083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ารรายงานต่อทางราชการและการบริ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ผ่านแดน6"/>
          <p:cNvPicPr/>
          <p:nvPr/>
        </p:nvPicPr>
        <p:blipFill>
          <a:blip r:embed="rId1"/>
          <a:srcRect l="13911" t="57888" r="22375" b="7123"/>
          <a:stretch/>
        </p:blipFill>
        <p:spPr>
          <a:xfrm>
            <a:off x="5021280" y="1600200"/>
            <a:ext cx="3290760" cy="4495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555-emoticon-9730"/>
          <p:cNvPicPr/>
          <p:nvPr/>
        </p:nvPicPr>
        <p:blipFill>
          <a:blip r:embed="rId2"/>
          <a:stretch/>
        </p:blipFill>
        <p:spPr>
          <a:xfrm>
            <a:off x="7093080" y="260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การปกครองส่วนภูมิภา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ราชการบริหารส่วนภูมิภาค ประกอบด้ว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จังหวัด เป็นนิติบุคคล มีทั้งหมด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76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จังหวั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อำเภอ ไม่เป็นนิติบุคคล มีทั้งหมด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878 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อำเภ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a99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336699"/>
                </a:solidFill>
                <a:latin typeface="Arial"/>
              </a:rPr>
              <a:t>การนำข้อราชการไปประกาศให้ราษฎรทรา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2356920"/>
            <a:ext cx="45352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จัดประชุมราษฎรและคณะกรรมการหมู่บ้านอย่างน้อยเดือนละ ๑ ครั้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อบรมหรือชี้แจงราษฎรให้มีความรู้ความเข้าใจในข้อราชการ กฎหมาย หรือระเบียบแบบแผนของ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ให้การสนับสนุน ส่งเสริม และอำนวยความในการปฏิบัติหน้าที่หรือการให้บริการของส่วน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26-3-2550 10-00-07_0067"/>
          <p:cNvPicPr/>
          <p:nvPr/>
        </p:nvPicPr>
        <p:blipFill>
          <a:blip r:embed="rId1"/>
          <a:srcRect l="0" t="0" r="0" b="28852"/>
          <a:stretch/>
        </p:blipFill>
        <p:spPr>
          <a:xfrm>
            <a:off x="6067440" y="1600200"/>
            <a:ext cx="2311560" cy="215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Untitled-6"/>
          <p:cNvPicPr/>
          <p:nvPr/>
        </p:nvPicPr>
        <p:blipFill>
          <a:blip r:embed="rId2"/>
          <a:stretch/>
        </p:blipFill>
        <p:spPr>
          <a:xfrm>
            <a:off x="6040440" y="3940200"/>
            <a:ext cx="2335320" cy="215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wbp_20071006102409"/>
          <p:cNvPicPr/>
          <p:nvPr/>
        </p:nvPicPr>
        <p:blipFill>
          <a:blip r:embed="rId3"/>
          <a:stretch/>
        </p:blipFill>
        <p:spPr>
          <a:xfrm>
            <a:off x="250920" y="609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star"/>
          <p:cNvPicPr/>
          <p:nvPr/>
        </p:nvPicPr>
        <p:blipFill>
          <a:blip r:embed="rId4"/>
          <a:stretch/>
        </p:blipFill>
        <p:spPr>
          <a:xfrm>
            <a:off x="609480" y="6093000"/>
            <a:ext cx="57636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2520" y="25524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e3e3ff"/>
                </a:solidFill>
                <a:latin typeface="Arial"/>
              </a:rPr>
              <a:t>กิจการสาธารณประโยชน์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แจ้งให้ราษฎรช่วยเหลือในกิจการสาธารณประโยชน์เพื่อบำบัดปัดป้องภยันตรายสาธารณะที่มีมาโดยฉุกเฉิน รวมตลอดทั้งการช่วยเหลือบรรเทาทุกข์แก่ผู้ประสบภั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ร่วมมือและช่วยเหลือนายอำเภอและองค์กรปกครองส่วนท้องถิ่นในการดูและรักษาป้องกันที่ดินอันเป็นสาธารณสมบัติของแผ่นด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ในเวลาวันนักขัตฤกษ์ กำนันจะเรียกผู้ใหญ่บ้าน แพทย์ประจำตำบลมาช่วยรักษาความเรียบร้อยในที่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ภาพเคลื่อนไหว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0920" y="6308640"/>
            <a:ext cx="2233800" cy="3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58560" y="136080"/>
            <a:ext cx="482436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e3e3ff"/>
                </a:solidFill>
                <a:uFillTx/>
                <a:latin typeface="Arial"/>
              </a:rPr>
              <a:t>การที่เกี่ยวกับคดีอาญ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025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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มื่อทราบข่าวมีการกระทำผิดกฎหมายเกิดขึ้นหรือสงสัยว่าเกิดในหมู่บ้านของเองให้แจ้งต่อกำนันทรา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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มื่อทราบข่าวมีการกระทำผิดกฎหมายเกิดขึ้นหรือสงสัยว่าเกิดในหมู่บ้านใกล้เคียงให้แจ้งต่อผู้ใหญ่บ้านนั้นทรา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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มื่อตรวจพบของกลางหรือสิ่งของที่ได้มาโดยผิดกฎหมายให้จับสิ่งของนั้นไว้ส่งกำนั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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มื่อมีหมายหรือคำสั่งหน้าที่ราชการให้จับผู้ใดในหมู่บ้านนั้นเป็นหน้าที่ของผู้ใหญ่บ้านที่จะจับผู้นั้นส่งกำนันและกรมการ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yenta4-emoticon-0001"/>
          <p:cNvPicPr/>
          <p:nvPr/>
        </p:nvPicPr>
        <p:blipFill>
          <a:blip r:embed="rId1"/>
          <a:stretch/>
        </p:blipFill>
        <p:spPr>
          <a:xfrm>
            <a:off x="8244000" y="6165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kapook_14782"/>
          <p:cNvPicPr/>
          <p:nvPr/>
        </p:nvPicPr>
        <p:blipFill>
          <a:blip r:embed="rId2"/>
          <a:stretch/>
        </p:blipFill>
        <p:spPr>
          <a:xfrm>
            <a:off x="7812000" y="5734080"/>
            <a:ext cx="86364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71280" y="1125360"/>
            <a:ext cx="1663920" cy="1357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ทะเบียนราษฎ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835280" y="1125360"/>
            <a:ext cx="1728720" cy="135756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บัตรประจำตั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ประชาช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0" y="0"/>
            <a:ext cx="9144000" cy="93672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อำนาจหน้าที่ตามกฎหมายอื่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673440" y="1125360"/>
            <a:ext cx="1727280" cy="1357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ครอบครั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5495760" y="1125360"/>
            <a:ext cx="1727280" cy="135756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สัตว์พาหน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7308720" y="1125360"/>
            <a:ext cx="1657440" cy="1357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อาวุธปื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81000" y="2565360"/>
            <a:ext cx="1611360" cy="13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รับราช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ทห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835280" y="2565360"/>
            <a:ext cx="1726920" cy="135720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ป้องกันภั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ฝ่ายพลเรื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3673440" y="2565360"/>
            <a:ext cx="1728720" cy="13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ประมว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        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ฎหมาย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อาญาและวิ อาญ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526000" y="2565360"/>
            <a:ext cx="1638360" cy="135720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ารเช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ที่ดินเพื่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เกษตรกร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7308720" y="2565360"/>
            <a:ext cx="1656000" cy="13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ป่าไม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68400" y="4005360"/>
            <a:ext cx="1623960" cy="13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ป่าสงว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แห่งชาต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1835280" y="4005360"/>
            <a:ext cx="1728720" cy="136836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สงวน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คุ้มคร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สัตว์ป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670200" y="4005360"/>
            <a:ext cx="1693800" cy="136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ฎหมายว่าด้ว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ชลประท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5508720" y="4005360"/>
            <a:ext cx="1655640" cy="136692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ระเบีย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ว่าด้วยการใช้น้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7308720" y="4005360"/>
            <a:ext cx="1656000" cy="136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บำรุงท้อง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2843280" y="5445000"/>
            <a:ext cx="158436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โรคติดต่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572000" y="5445000"/>
            <a:ext cx="1665360" cy="12970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กฎหมายว่าด้ว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ผักตบชว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0" descr="postgang_208796"/>
          <p:cNvPicPr/>
          <p:nvPr/>
        </p:nvPicPr>
        <p:blipFill>
          <a:blip r:embed="rId1"/>
          <a:stretch/>
        </p:blipFill>
        <p:spPr>
          <a:xfrm rot="5400000">
            <a:off x="7041600" y="-122040"/>
            <a:ext cx="385920" cy="1150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1" descr="postgang_208796"/>
          <p:cNvPicPr/>
          <p:nvPr/>
        </p:nvPicPr>
        <p:blipFill>
          <a:blip r:embed="rId2"/>
          <a:stretch/>
        </p:blipFill>
        <p:spPr>
          <a:xfrm flipH="1" rot="16200000">
            <a:off x="1784880" y="-122040"/>
            <a:ext cx="385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ผู้ใหญ่บ้านเป็นนายทะเบียนผู้รับแจ้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แจ้งเกิด แจ้งตาย แจ้งย้ายที่อยู่ แจ้งย้ายปลายทาง ปลูกสร้างใหม่หรือรื้อถ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ให้ถ้อยคำรับรองบุคค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0" y="0"/>
            <a:ext cx="4859280" cy="71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ทะเบียนราษฎ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14200" y="407664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แจ้งให้ราษฎรผู้มีสัญชาติไทยที่มีอายุครบ ๑๕ ปี บริบูรณ์ ไปยื่นคำขอมีบัต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เจ้าพนักงานตรวจบัต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4920" y="3024360"/>
            <a:ext cx="5616720" cy="71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บัตรประจำตัวประชาช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0" y="0"/>
            <a:ext cx="5580000" cy="71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ทะเบียนราษฎ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7" descr="wbp_20071006101704"/>
          <p:cNvPicPr/>
          <p:nvPr/>
        </p:nvPicPr>
        <p:blipFill>
          <a:blip r:embed="rId1"/>
          <a:stretch/>
        </p:blipFill>
        <p:spPr>
          <a:xfrm>
            <a:off x="4216320" y="609300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871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ผู้ใหญ่บ้านมีหน้าที่ในฐานะพยานการจดทะเบียน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ำนันรับจดทะเบีย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0" y="0"/>
            <a:ext cx="5940360" cy="71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การจดทะเบียนครอบครั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34920" y="3860640"/>
            <a:ext cx="4824360" cy="71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อาวุธปืน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44360" y="4797360"/>
            <a:ext cx="867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อาจเป็นผู้ให้การรับรองความประพฤติและหลักฐานของผู้ขออนุญาตมีและใช้อาวุธป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เป็นผู้กำกับ ดูแล ควบคุมตรวจตราการมีและใช้อาวุธปืนภายในตำบลหมู่บ้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wbp_20071006101704"/>
          <p:cNvPicPr/>
          <p:nvPr/>
        </p:nvPicPr>
        <p:blipFill>
          <a:blip r:embed="rId1"/>
          <a:stretch/>
        </p:blipFill>
        <p:spPr>
          <a:xfrm>
            <a:off x="4216320" y="609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7"/>
          <p:cNvSpPr/>
          <p:nvPr/>
        </p:nvSpPr>
        <p:spPr>
          <a:xfrm>
            <a:off x="34920" y="1916280"/>
            <a:ext cx="5257800" cy="71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ทะเบียนสัตว์พาหน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44360" y="2781360"/>
            <a:ext cx="867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สำรวจและจัดทำบัญชีสัตว์ประจำคอก ซึ่งยังไม่ได้ทำตั๋วรูปพรรณ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แบบ ส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๑๘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ส่งนายทะเบียนเป็นประจำทุกเดื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8000" y="69228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ในเดือนกันยายน ของทุกปี ต้องนำประกาศของนายอำเภอแจ้งชายไทยที่มีอายุย่างเข้า ๑๘ ปีไปลงบัญชีทหารกองเกิน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ในเดือนตุลาคม ของทุกปี ต้องนำประกาศของนายอำเภอแจ้งชายไทยที่มีอายุย่างเข้า ๒๑ปีไปแสดงตนเพื่อรับหมายเรีย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มาณเดือนเมษายนนำราษฎรไปแสดงตนเพื่อคัดเลือกทห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0" y="11160"/>
            <a:ext cx="5580000" cy="71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การรับราชการทห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08000" y="4435560"/>
            <a:ext cx="9036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เจ้าพนักงานป้องกันภัย ตาม พ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้องกันภัยฝ่ายพลเรือน พ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๒๕๒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เจ้าพนักงานตามประมวลกฎหมายอาญา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มาตรา ๔๓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มีอำนาจเข้าจัดการใด ๆ และสั่งให้บุคคลใด ๆ เข้าช่วยเหลือเท่าที่จำเป็น เพื่อขจัดภั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1440" y="3570120"/>
            <a:ext cx="5865840" cy="71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การป้องกันภัยฝ่ายพลเรือ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09440" y="620640"/>
            <a:ext cx="9036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เจ้าพนักงานฝ่ายปกครอง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มื่อผู้ใหญ่บ้านทราบข่าวการกระทำผิดกฎหมายในหมู่บ้าน ต้องแจ้งความต่อกำนัน หรือเมื่อตรวจพบของกลาง ให้นำส่งกำนั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จับกุมผู้กระทำผิด หรือจัดการให้เป็นไปตามหมายจับ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มื่อกระทำการตามอำนาจหน้าที่ ผู้ใดดูหมิ่นหรือต่อสู้ขัดขวาง ย่อมมีความผิด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440" y="-1440"/>
            <a:ext cx="3867120" cy="622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ประมวลกฎหมาย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9440" y="3716280"/>
            <a:ext cx="9036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รักษาความสงบเรียบร้อยภายในเขตที่รับผิดชอบ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 “พนักงานฝ่ายปกครองหรือตำรวจ” ตาม ป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วิ อาญา มีอำนาจหน้าที่ในเขตท้องที่ของตน ดังนี้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สืบสวนคดีอาญา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จับกุมผู้กระทำความผิดอาญา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ค้น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จัดการให้เป็นไปตามหมายอาญ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440" y="3068640"/>
            <a:ext cx="5578560" cy="6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ประมวลกฎหมายวิธีพิจารณาความ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09440" y="763560"/>
            <a:ext cx="9036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คณะกรรมการเช่าที่ดินเพื่อเกษตรกรรมประจำตำบล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คชก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ตำบล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กำหนดอัตราค่าเช่าชั้นสูงของแต่ละท้องที่ และพิจารณาวินิจฉัยเกี่ยวกับการเรียกเก็บค่าเช่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อนุกรรมการส่วนอำเภอ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อชก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ส่วนอำเภอ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ช่วยเหลือเกษตรกรและผู้ยากจ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1440" y="-1440"/>
            <a:ext cx="5865840" cy="622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การเช่าที่ดินเพื่อเกษตรกรร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09440" y="3095640"/>
            <a:ext cx="9036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พนักงานเจ้าหน้าที่ตาม พ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ร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ป่าไม้ พ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๒๔๘๔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ป้องกันและปราบปรามการลักลอบตัดไม้ทำลายป่าและการกระทำผิดตาม พ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ร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ป่าไม้ ในเขตท้องที่รับผิดชอบ ดังนี้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การทำไม้หวงห้ามโดยไม่ได้รับอนุญาต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ไม้หวงห้ามมี ๒๐๐ ประเภท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การเก็บหรือทำอันตรายของป่าหวงห้าม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การแปรรูปไม้โดยไม่ได้รับอนุญาต หรือมีไม้แปรรูปไว้ในครอบครอง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การเคลื่อนย้ายไม้เรือนเก่าโดยไม่ถูกต้อง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การบุกรุกทำลายป่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440" y="2374920"/>
            <a:ext cx="3706920" cy="6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ป่าไม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6" descr="6856-dookdik-43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430960"/>
            <a:ext cx="7142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09440" y="765000"/>
            <a:ext cx="9036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พนักงานเจ้าหน้าที่ตาม พ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ร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ป่าสงวนแห่งชาติ พ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๒๕๐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ป้องกันและปราบปรามการลักลอบตัดไม้ทำลายป่าในเขตป่าสงวนแห่งชาต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สั่งให้ผู้ใดออกจากเขตป่าสงวนแห่งชาติหรืองดเว้นการกระทำใด ๆ ในเขตปาสงวนแห่งชาต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440" y="-1440"/>
            <a:ext cx="4426200" cy="622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ป่าสงวนแห่งชา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09440" y="3672000"/>
            <a:ext cx="9036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พนักงานเจ้าหน้าที่ตาม พ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ร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สงวนและคุ้มครองสัตว์ป่า พ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๒๕๓๕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ป้องกันและปราบปรามการกระทำผิดตามกฎหมายนี้ รวมทั้งตรวจสอบการอนุญาตต่าง ๆ ในเขตท้องที่ที่รับผิดชอบ ดังนี้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ห้ามมิให้ผู้ใดล่าสัตว์ป่าสงวน ครอบครองสัตว์ป่าสงวนหรือซากสัตว์ป่าสงวน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ห้ามมิให้ผู้ใดล่าสัตว์ป่าคุ้มครอง ครอบครองสัตว์ป่าคุ้มครองเกินกำหนด หรือค้าสัตว์ป่าคุ้มครอง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ห้ามมิให้ผู้ใดค้า หรือมีซากสัตว์ป่าคุ้มครองชนิดที่กำหนดไว้ในกฎกระทรว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1440" y="2879640"/>
            <a:ext cx="5578560" cy="6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การสงวนและคุ้มครองสัตว์ป่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6" descr="รูปภาพ25"/>
          <p:cNvPicPr/>
          <p:nvPr/>
        </p:nvPicPr>
        <p:blipFill>
          <a:blip r:embed="rId1"/>
          <a:stretch/>
        </p:blipFill>
        <p:spPr>
          <a:xfrm>
            <a:off x="6948360" y="6453360"/>
            <a:ext cx="2087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คณะกรมการจังหวัด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คณะกรมการจังหวัด ประกอบด้ว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รองผู้ว่าราชการจังหวัดคนหนึ่งตามที่ผู้ว่าราชการจังหวัด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มอบหมา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ปลัดจังหวั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อัยการจังหวั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ผู้บังคับการตำรวจภูธรจังหวั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หัวหน้าส่านราชการประจำจังหวัดจากกระทรวง หรือทบวงละ ๑ คน ยกเว้น กระทรวงมหาด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109440" y="836640"/>
            <a:ext cx="903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เกณฑ์แรงงานหรือเครื่องอุปกรณ์การชลประทานส่วนราษฎ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ผู้แบ่งและควบคุมงาน ในการแบ่งปันการงานและเครื่องอุปกรณ์การชลประทานส่วนราษฎ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แบ่งปันน้ำในเขตชลประทานส่วนราษฎ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1440" y="-1440"/>
            <a:ext cx="4714920" cy="622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ชลประทานราษฎร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09440" y="3213000"/>
            <a:ext cx="9036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หน้าที่ประสานงานการขอโครงการกับกลุ่มราษฎร องค์กรระดับหมู่บ้า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จัดหางบประมาณหรือแรงงานสมทบการก่อสร้างตามที่จำเป็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จัดตั้งกลุ่มใช้น้ำและสนับสนุนให้มีการวางระเบียบเพื่อบริหารการใช้น้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ดำเนินกิจกรรมต่อเนื่องของโครงการ วางแผนการนำน้ำไปใช้ และใช้น้ำให้เกิดประโยชน์สูงสุด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ร่งรัดกลุ่มผู้ใช้น้ำให้มีส่วนร่วมในการบำรุงรักษาและซ่อมแซมโครงกา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ดูแลรักษาคันคลองและทางน้ำชลประทานในเขตท้องที่ ตามกฎหมายว่าด้วยชลประทานหลว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-20520" y="2492280"/>
            <a:ext cx="8048520" cy="6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ระเบียบสำนักนายกรัฐมนตรีว่าด้วยการบริหารการใช้น้ำฯ พ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๒๕๒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6" descr="MMj02867280000[1]"/>
          <p:cNvPicPr/>
          <p:nvPr/>
        </p:nvPicPr>
        <p:blipFill>
          <a:blip r:embed="rId1"/>
          <a:stretch/>
        </p:blipFill>
        <p:spPr>
          <a:xfrm>
            <a:off x="3924360" y="6122880"/>
            <a:ext cx="1224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09440" y="692280"/>
            <a:ext cx="9036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เจ้าพนักงานสำรวจตามแบบแสดงรายการที่ดิน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ภ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ท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มีอำนาจหน้าที่ ดังนี้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จัดทำประกาศกำหนดวัน เวลา สำรวจที่ดิน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ข้าไปในที่ดินเพื่อสำรวจตามที่เห็นว่าถูกต้อง กรณีเจ้าของที่ดินไม่ยอมแจ้งจำนวนเนื้อที่ดิน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สำรวจและยื่นแบบแสดงรายการที่ดิน</a:t>
            </a:r>
            <a:br>
              <a:rPr sz="2600"/>
            </a:b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สำรวจที่ดิน กรณีรับแจ้งจากเจ้าของที่ดินว่าเป็นเจ้าของที่ดินรายใหม่ หรือจำนวนเนื้อที่ดินเปลี่ยนแปลงไ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0" y="0"/>
            <a:ext cx="4643280" cy="6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ภาษีบำรุงท้องที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09440" y="4005360"/>
            <a:ext cx="9036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หากพบโรคติดต่อเกิดขึ้นในตำบล หมู่บ้าน ต้องรีบแจ้งให้ทางราชการทราบ เพื่อป้องกันมิให้โรคระบาดลุกลามต่อไ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-20520" y="3284640"/>
            <a:ext cx="4663800" cy="622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โรคติด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06200" y="5734080"/>
            <a:ext cx="9036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-23760" y="5013360"/>
            <a:ext cx="4664160" cy="622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หน้าที่ตามกฎหมายว่าด้วยการกำจัดผักตบชว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108000" y="5759280"/>
            <a:ext cx="9036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rial"/>
              </a:rPr>
              <a:t>เป็นเจ้าพนักงานผู้ปกครองท้องที่ มีหน้าที่เรียกระดมราษฎรช่วยกันกำจัดผักตบชวา โดยให้ถือว่าเป็นสาธารณประโยชน์อย่างหนึ่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1120" y="2806560"/>
            <a:ext cx="7562880" cy="32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br>
              <a:rPr sz="4400"/>
            </a:b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โทร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๐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๒๖๒๙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๘๓๐๖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๑๕ ต่อ ๔๐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3" descr="boymove1"/>
          <p:cNvPicPr/>
          <p:nvPr/>
        </p:nvPicPr>
        <p:blipFill>
          <a:blip r:embed="rId1"/>
          <a:stretch/>
        </p:blipFill>
        <p:spPr>
          <a:xfrm>
            <a:off x="1908000" y="5335560"/>
            <a:ext cx="795600" cy="131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boymove1"/>
          <p:cNvPicPr/>
          <p:nvPr/>
        </p:nvPicPr>
        <p:blipFill>
          <a:blip r:embed="rId2"/>
          <a:stretch/>
        </p:blipFill>
        <p:spPr>
          <a:xfrm>
            <a:off x="6516720" y="5300640"/>
            <a:ext cx="795240" cy="131940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5"/>
          <p:cNvSpPr/>
          <p:nvPr/>
        </p:nvSpPr>
        <p:spPr>
          <a:xfrm>
            <a:off x="2843280" y="5373720"/>
            <a:ext cx="3529080" cy="1295280"/>
          </a:xfrm>
          <a:prstGeom prst="horizontalScroll">
            <a:avLst>
              <a:gd name="adj" fmla="val 12500"/>
            </a:avLst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3399"/>
                </a:solidFill>
                <a:latin typeface="Arial"/>
                <a:cs typeface="FreesiaUPC"/>
              </a:rPr>
              <a:t>ขอบคุณครั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549440" y="1136520"/>
            <a:ext cx="6335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Comic Sans MS"/>
              </a:rPr>
              <a:t>สำนักบริหารการปกครองท้องที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Comic Sans MS"/>
              </a:rPr>
              <a:t>ส่วนบริหารงานกำนันผู้ใหญ่บ้า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7" descr="หัวใจ"/>
          <p:cNvPicPr/>
          <p:nvPr/>
        </p:nvPicPr>
        <p:blipFill>
          <a:blip r:embed="rId3"/>
          <a:stretch/>
        </p:blipFill>
        <p:spPr>
          <a:xfrm>
            <a:off x="0" y="4292640"/>
            <a:ext cx="2155680" cy="1077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หัวใจ"/>
          <p:cNvPicPr/>
          <p:nvPr/>
        </p:nvPicPr>
        <p:blipFill>
          <a:blip r:embed="rId4"/>
          <a:stretch/>
        </p:blipFill>
        <p:spPr>
          <a:xfrm>
            <a:off x="0" y="2852640"/>
            <a:ext cx="2155680" cy="107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หัวใจ"/>
          <p:cNvPicPr/>
          <p:nvPr/>
        </p:nvPicPr>
        <p:blipFill>
          <a:blip r:embed="rId5"/>
          <a:stretch/>
        </p:blipFill>
        <p:spPr>
          <a:xfrm>
            <a:off x="2987640" y="4292640"/>
            <a:ext cx="2156040" cy="1077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หัวใจ"/>
          <p:cNvPicPr/>
          <p:nvPr/>
        </p:nvPicPr>
        <p:blipFill>
          <a:blip r:embed="rId6"/>
          <a:stretch/>
        </p:blipFill>
        <p:spPr>
          <a:xfrm>
            <a:off x="1908000" y="3141720"/>
            <a:ext cx="2156040" cy="1077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หัวใจ"/>
          <p:cNvPicPr/>
          <p:nvPr/>
        </p:nvPicPr>
        <p:blipFill>
          <a:blip r:embed="rId7"/>
          <a:stretch/>
        </p:blipFill>
        <p:spPr>
          <a:xfrm>
            <a:off x="5724360" y="4292640"/>
            <a:ext cx="2156040" cy="1077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หัวใจ"/>
          <p:cNvPicPr/>
          <p:nvPr/>
        </p:nvPicPr>
        <p:blipFill>
          <a:blip r:embed="rId8"/>
          <a:stretch/>
        </p:blipFill>
        <p:spPr>
          <a:xfrm>
            <a:off x="4067280" y="3357720"/>
            <a:ext cx="2155680" cy="1077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หัวใจ"/>
          <p:cNvPicPr/>
          <p:nvPr/>
        </p:nvPicPr>
        <p:blipFill>
          <a:blip r:embed="rId9"/>
          <a:stretch/>
        </p:blipFill>
        <p:spPr>
          <a:xfrm>
            <a:off x="3780000" y="2421000"/>
            <a:ext cx="2155680" cy="1077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หัวใจ"/>
          <p:cNvPicPr/>
          <p:nvPr/>
        </p:nvPicPr>
        <p:blipFill>
          <a:blip r:embed="rId10"/>
          <a:stretch/>
        </p:blipFill>
        <p:spPr>
          <a:xfrm>
            <a:off x="6012000" y="3284640"/>
            <a:ext cx="2155680" cy="1077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5" descr="หัวใจ"/>
          <p:cNvPicPr/>
          <p:nvPr/>
        </p:nvPicPr>
        <p:blipFill>
          <a:blip r:embed="rId11"/>
          <a:stretch/>
        </p:blipFill>
        <p:spPr>
          <a:xfrm>
            <a:off x="4643280" y="1268280"/>
            <a:ext cx="2156040" cy="1078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6" descr="หัวใจ"/>
          <p:cNvPicPr/>
          <p:nvPr/>
        </p:nvPicPr>
        <p:blipFill>
          <a:blip r:embed="rId12"/>
          <a:stretch/>
        </p:blipFill>
        <p:spPr>
          <a:xfrm>
            <a:off x="6988320" y="3068640"/>
            <a:ext cx="2155680" cy="1077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7" descr="หัวใจ"/>
          <p:cNvPicPr/>
          <p:nvPr/>
        </p:nvPicPr>
        <p:blipFill>
          <a:blip r:embed="rId13"/>
          <a:stretch/>
        </p:blipFill>
        <p:spPr>
          <a:xfrm>
            <a:off x="6988320" y="1628640"/>
            <a:ext cx="2155680" cy="1078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8" descr="หัวใจ"/>
          <p:cNvPicPr/>
          <p:nvPr/>
        </p:nvPicPr>
        <p:blipFill>
          <a:blip r:embed="rId14"/>
          <a:stretch/>
        </p:blipFill>
        <p:spPr>
          <a:xfrm>
            <a:off x="6988320" y="907920"/>
            <a:ext cx="2155680" cy="1078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หัวใจ"/>
          <p:cNvPicPr/>
          <p:nvPr/>
        </p:nvPicPr>
        <p:blipFill>
          <a:blip r:embed="rId15"/>
          <a:stretch/>
        </p:blipFill>
        <p:spPr>
          <a:xfrm>
            <a:off x="0" y="2276640"/>
            <a:ext cx="2155680" cy="1077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0" descr="หัวใจ"/>
          <p:cNvPicPr/>
          <p:nvPr/>
        </p:nvPicPr>
        <p:blipFill>
          <a:blip r:embed="rId16"/>
          <a:stretch/>
        </p:blipFill>
        <p:spPr>
          <a:xfrm>
            <a:off x="0" y="765000"/>
            <a:ext cx="2155680" cy="1078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1" descr="หัวใจ"/>
          <p:cNvPicPr/>
          <p:nvPr/>
        </p:nvPicPr>
        <p:blipFill>
          <a:blip r:embed="rId17"/>
          <a:stretch/>
        </p:blipFill>
        <p:spPr>
          <a:xfrm>
            <a:off x="1692360" y="1413000"/>
            <a:ext cx="21556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การจัดระเบียบการปกครองของไทย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จะเป็นรูปแบบใดขึ้นอยู่กับสภาพการณ์ ปัจจัยต่าง ๆ ในช่วงเวลานั้น ๆ   เช่น สถานการณ์การเมือง อิทธิพลของชาติตะวันตก ขีดความสามารถ ของพลเมื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ชนชาติไทยมีการรวมตัวกันเป็นปึกแผ่นมาตั่งแต่สมัยน่านเจ้า แต่เริ่มมีการบันทึกเป็นหลักฐานในสมัยสุโขทัย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มัยพ่อขุนรามคำแหงมหาราช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มาณ พ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๑๘๐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วิวัฒนาการรูปแบบการปกครองของไทย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แบ่งออกเป็น ๔ ยุค ดังนี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มัยสุโขทั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มัยอยุธย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มัยกรุงธนบุ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มัยรัตนโกสินทร์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ัจจุบัน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สมัยสุโขทัย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ลักษณะพ่อปกครองลูก หากราษฎรผู้อยู่ใต้ปกครองได้รับความเดือดร้อนก็จะร้องทุกข์ต่อพ่อขุนราคำแหงมหาราช โดยวิธีการสั่นกระดิ่ง พระมหากษัตริย์ก็จะดำเนินการไต่สวนแก้ปัญหาความเดือดร้อนให้กับราษฎรซึ่งเปรียบเสมือนลู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ดิษฐ์อักษรไทยขึ้นใช้เป็นครั้งแร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สมัยอยุธย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เมื่อสุโขทัยเสื่อมอำนาจลง ชนชาติไทยได้มีการสถาปนาราชธานีแห่ง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ใหม่ ในปี พ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๑๘๙๓ คือ กรุงศรีอยุธย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ลักษณะการปกครองได้เปลี่ยนแปลงไปตามคติพราหมณ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การจัดการปกครองในส่วนกลางแบ่งออกเป็น ๔ กรม เรียกว่า จตุสดมภ์ แต่ละ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กรมมีเสนาบดีเป็นผู้ปกครองบังคับบัญชา คื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เวียง รับผิดชอบปกครองท้องที่ ดูแลทุกข์สุขของประชาชนและรักษ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ความสงบเรียบร้อ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วัง รับผิดชอบเกี่ยวกับราชสำนั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คลัง รับผิดชอบจัดเก็บรายได้ เงินผลประโยชน์ของแผ่นดิ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นา รับผิดชอบเกี่ยวกับไร่นา เตรียมเสบียงเพื่อการสง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ต่อมาสมัยพระบรมไตรโลกนาถ ประมาณ ๑๙๙๑ได้มีการปรับปรุงลักษณะการปกครองโด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แยกกิจการฝ่ายทหารออกจากฝ่ายพลเรือน และได้กำหนดให้มีตำแหน่งอัครเสนาบดีขึ้น ๒ ตำแหน่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ต่อมาสมัยพระบรมไตรโลกนาถ ประมาณ ๑๙๙๑ได้มีการปรับปรุ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ลักษณะการปกครองโดยแยกกิจการฝ่ายทหารออกจากฝ่ายพลเรือน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และได้กำหนดให้มีตำแหน่งอัครเสนาบดีเพิ่มขึ้น ๒ ตำแหน่ง คื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มุหกลาโหม ทำหน้าที่บังคับบัญชากิจการฝ่ายทหารทั้งปว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มุหนายก ทำหน้าที่บังคับบัญชาสตุสดมภ์และกิจการฝ่ายพลเรือนทั้งปว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การปกครองอาณาเข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มีการขยายราชธานี กว้วงออกไปโดยรอบกำหนดเมืองที่อยู่ในราชธานี        เป็นเมืองจัตวา อยู่ในอำนาจของเจ้ากระทรวงต่าง ๆ ที่อยู่ในราชธาน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ัวเมืองชั้นนอกราชธานีออกไป จัดเป็นเมือง เอก โท ตรี ตามขนาดและความสำคัญของเมือง พระเจ้าแผ่นดินจะตั้งพระราชวงศ์หรือข้าราชการชั้นสูงไปปกคร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ัวเมืองที่ห่างออกไปซึงต่างชาติต่างภาษาให้เป็นเมืองประเทศราชมีเจ้านายของชนชาตินั้นปกครองตามจารีตประเพณีของชนชาติ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ารปกครองท้องที่ในเมืองหนึ่งนั้น เริ่มตั่งแต่ บ้าน หลายบ้านรวมกันมี ผู้ใหญ่บ้านเป็นผู้ปกคร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หลาย ๆ หมู่บ้านรวมกันเป็นตำบล มีกำนันเป็นผู้ปกครอง กำนันเกิดขึ้นเป็นครั้งแร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หลาย ๆ ตำบลรวมกันเป็นแขวง มีหมื่นแขวงเป็นผู้ปกคร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วิธีการปกครองระหว่าง พุทธสักราช ๑๙๙๑ – ๒๐๗๒ ในสมัย    อยุธยาได้ใช้เป็นหลักสืบมา จนถึงรัตนโกสินทร์จะแก้ไขบ้างก็เป็นเพียงส่วนย่อยหลักใหญ่ยังคงใช้มาจนถึงปัจจุบั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อำเภอ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ไม่มีฐานะเป็นนิติบุคค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หลาย ๆ ตำบลรวมกันเป็นอำเภ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ประกอบด้วย นายอำเภอ ปลัดอำเภอ หัวหน้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่วนราชการประจำอำเภ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กำนัน ผู้ใหญ่บ้าน เป็นผู้ช่วยเหลือนายอำเภอตาม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มาตรา ๒๗ และ มาตรา ๓๔ ทว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สมัยกรุงธนบุร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หลังจากเสียกรุงให้พม่าสมเด็จพระเจ้าตากสินมหาราชก็ได้สถาปนาราชธานีแห่งใหม่ขึ้นมา คือ กรุงธนบุ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พุทธศักราช ๒๔๓๕ สมัยรัชกาลที่ ๕ ได้มีพระบรมราชโองการให้ตั้งกระทรวงแบบใหม่สำหรับการปกครองส่วนกลางโดยจัดสรรอำนาจหน้าที่ความรับผิดชอบของกระทรวงให้เป็นสัดส่ว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การปกครองอาณาเขตกำหนดให้อยู่ในความรับผิดชอบของกระทรวงมหาดไทย โดยมอบหมายให้ สมเด็จกรมพระยาดำรงราชา   นุภาพเป็นองค์ปฐมเสนาบดี ดำเนินการจัดรูปแบบการปกครองในส่วนภูมิภาคที่เรียกว่า เทศาภิบา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แบ่งหัวเมืองออกเป็น มณฑล เมือง และอำเภอ มีสมุหเทศาภิบาลผู้ว่าการเมืองและนายอำเภอเป็นผู้ปกคร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สมัยรัตนโกสินทร์</a:t>
            </a: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ปัจจุบัน</a:t>
            </a: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ัฐธรรมนูญเป็นกฎหมายสูงสุดที่ใช้ในการปกครองประเทศ แบ่งอำนาจออกเป็น ๓ อำนาจ ค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ำนาจนิติบัญญัติ คือ รัฐสภา ทำหน้าที่ออกกฎหมา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ำนาจบริหาร คือ รัฐบา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ำนาจตุลาการ คือ อำนาในการพิจารณาพิพากษาคดีของศาลต่า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ฝ่ายบริหาร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มี พ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บ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ะเบียบบริหารราชการแผ่นดิน เป็นกฎหมายที่วางหลักในการบริหารราชการของประเทศ โดยแบ่งออกเป็น ๓ ส่วน ค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าชการบริหารส่วนกลา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าชการบริหารส่วนภูมิภา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าชการบริหารส่วนท้องถิ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ราชการบริหารส่วนกลาง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กอบ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ำนักนายก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กระทรวง ปัจจุบัน มี ๒๐ กระทรว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ทบว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กรม หรือส่วนราชการที่เรียกชื่ออย่างอื่นและมีฐานะเป็นกรม ซึ่งสังกัดหรือไม่สังกัดสำนักนายก กระทรวง ทบวง กร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ราชการบริหารส่วนภูมิภา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คือ การแบ่งอำนาจของราชการส่วนกลาง กระทรวง ทบวง กรมต่าง ๆ ไปให้ส่วนภูมิภาคเพื่อสนองความต้องการของประชาชนในเขตการปกครอง นั้น ๆ แต่มิใช่การกระจายอำนา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จ้าหน้าที่ส่วนภูมิภาคอยู่ใต้การบังคับบัญชาของส่วนกลา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ราชการบริหารส่วนภูมิภาคได้รับมอบอำนาจวินิจฉัยสั่งการเฉพาะบางเรื่อง บางประการเท่า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ราชการบริหารส่วนภูมิภาค ประกอบ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อำเภ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จังหวัด ประกอบ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รองผู้ว่าราชการ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ผู้ช่วยผู้ว่าราชการจังหวัด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ปัจจุบันยังไม่มีการแต่งตั้ง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ปลัด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ัวหน้าสำนักงาน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๖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ัวหน้าส่วนราชการประจำ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๗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คณะกรมการจังหวัด ประกอบ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รองผู้ว่าราชการจังหวัดคนหนึ่งตามที่ผู้ว่าราชการจังหวัดมอบ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ปลัด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อัยการ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ผู้บังคับการตำรวจภูธรจังห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ัวหน้าส่านราชการประจำจังหวัดจากกระทรวง หรือทบวงละ ๑ คน ยกเว้น กระทรวงมหาด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อำเภอ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ไม่มีฐานะเป็นนิติบุคค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หลาย ๆ ตำบลรวมกันเป็น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กอบด้วย นายอำเภอ ปลัดอำเภอ หัวหน้าส่วนราชการประจำ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กำนัน ผู้ใหญ่บ้าน เป็นผู้ช่วยเหลือนายอำเภอตามมาตรา ๒๗ และ มาตรา ๓๔ ทว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ราชการบริหารส่วนท้องถิ่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ระจายอำนา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ประกอบ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รุงเทพ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เมืองพัทย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เทศบา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๑ เทศบาลน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๒ เทศบาลเมื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๓ เทศบาลตำบ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3e3ff"/>
                </a:solidFill>
                <a:latin typeface="Arial"/>
              </a:rPr>
              <a:t>การปกครองส่วนท้องถิ่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ใช้หลักการกระจายอำนา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ประกอบด้ว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กรุงเทพ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เมืองพัทย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เทศบา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๑ เทศบาลนค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๒ เทศบาลเมือ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๓ เทศบาลตำบ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งค์การบริหารส่วนจังหวั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งค์การบริหารส่วนตำบล อยู่ในการกำกับดูแลของนาย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3e3ff"/>
                </a:solidFill>
                <a:latin typeface="Arial"/>
              </a:rPr>
              <a:t>รูปแบบการปกครองท้องที่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กอบ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หมู่บ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ตำบ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อำเภ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32:52Z</dcterms:created>
  <dc:creator>Kamnan</dc:creator>
  <dc:description/>
  <dc:language>en-US</dc:language>
  <cp:lastModifiedBy>A</cp:lastModifiedBy>
  <cp:lastPrinted>2013-01-22T03:27:52Z</cp:lastPrinted>
  <dcterms:modified xsi:type="dcterms:W3CDTF">2016-01-28T16:44:51Z</dcterms:modified>
  <cp:revision>121</cp:revision>
  <dc:subject/>
  <dc:title>อำนาจหน้าที่ของกำนัน ผู้ใหญ่บ้าน แพทย์ประจำตำบล  สารวัตรกำนัน และผู้ช่วยผู้ใหญ่บ้าน  ตาม พ.ร.บ.ลักษณะปกครองท้องที่ พระพุทธศักราช ๒๔๕๗</dc:title>
</cp:coreProperties>
</file>